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29.png" ContentType="image/png"/>
  <Override PartName="/ppt/media/image32.wmf" ContentType="image/x-wmf"/>
  <Override PartName="/ppt/media/image14.wmf" ContentType="image/x-wmf"/>
  <Override PartName="/ppt/media/image24.png" ContentType="image/png"/>
  <Override PartName="/ppt/media/image1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4.wmf" ContentType="image/x-wmf"/>
  <Override PartName="/ppt/media/image27.jpeg" ContentType="image/jpeg"/>
  <Override PartName="/ppt/media/image13.wmf" ContentType="image/x-wmf"/>
  <Override PartName="/ppt/media/image5.wmf" ContentType="image/x-wmf"/>
  <Override PartName="/ppt/media/image35.wmf" ContentType="image/x-wmf"/>
  <Override PartName="/ppt/media/image25.png" ContentType="image/png"/>
  <Override PartName="/ppt/media/image2.png" ContentType="image/png"/>
  <Override PartName="/ppt/media/image37.wmf" ContentType="image/x-wmf"/>
  <Override PartName="/ppt/media/image41.wmf" ContentType="image/x-wmf"/>
  <Override PartName="/ppt/media/image30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34.png" ContentType="image/png"/>
  <Override PartName="/ppt/media/image45.wmf" ContentType="image/x-wmf"/>
  <Override PartName="/ppt/media/image46.wmf" ContentType="image/x-wmf"/>
  <Override PartName="/ppt/media/image48.wmf" ContentType="image/x-wmf"/>
  <Override PartName="/ppt/media/image50.wmf" ContentType="image/x-wmf"/>
  <Override PartName="/ppt/media/image52.wmf" ContentType="image/x-wmf"/>
  <Override PartName="/ppt/media/image15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9.wmf" ContentType="image/x-wmf"/>
  <Override PartName="/ppt/media/image9.wmf" ContentType="image/x-wmf"/>
  <Override PartName="/ppt/media/image28.png" ContentType="image/png"/>
  <Override PartName="/ppt/media/image31.wmf" ContentType="image/x-wmf"/>
  <Override PartName="/ppt/media/image51.wmf" ContentType="image/x-wmf"/>
  <Override PartName="/ppt/media/image11.png" ContentType="image/png"/>
  <Override PartName="/ppt/media/image7.png" ContentType="image/png"/>
  <Override PartName="/ppt/media/image40.wmf" ContentType="image/x-wmf"/>
  <Override PartName="/ppt/media/image38.wmf" ContentType="image/x-wmf"/>
  <Override PartName="/ppt/media/image8.wmf" ContentType="image/x-wmf"/>
  <Override PartName="/ppt/media/image6.wmf" ContentType="image/x-wmf"/>
  <Override PartName="/ppt/media/image36.wmf" ContentType="image/x-wmf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103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F369-BA92-493E-8F9C-92FA32881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CBFB-A00D-4AC8-B05B-FE98088F7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1542-7D79-4D93-9EC7-B31ABB12B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A81F-B0EC-4FEB-8F80-38605DD58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DC11-D663-4DBF-8054-85633D84D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989B-5F8A-4931-8ECD-EDD3F19C6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2C0F-E5F4-4D88-AF1B-9075D2A36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903B-8B9C-4B23-B37F-733104E96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DB2F-C51E-47B7-B4E9-B27162FA1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D1DA-2712-4FF4-B7CF-F8B9B2F1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8202-F906-42DD-9423-A1ADEC327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E2F0-BBD9-4FD5-8737-0DBE64E4F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5C957-4890-4A09-A6F6-C0E58AAA9C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2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3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4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5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7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8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9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0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1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2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6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hyperlink" Target="http://www.terrandina.cl/espanol/portada_alto.htm" TargetMode="External"/><Relationship Id="rId2" Type="http://schemas.openxmlformats.org/officeDocument/2006/relationships/hyperlink" Target="http://www.terrandina.cl/espanol/portada_alto.htm" TargetMode="External"/><Relationship Id="rId3" Type="http://schemas.openxmlformats.org/officeDocument/2006/relationships/image" Target="../media/image27.jpe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3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7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8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9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0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1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2193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TLC CHILE-EEUU: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NEGOCIACIONES PARA EL SECTOR AGRÍCO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480" y="41148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GUSTAVO ROJAS LE-BE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PROFESOR FAC. AGRONOMÍA U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Times New Roman"/>
              </a:rPr>
              <a:t>gusrojas@puc.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14828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244880" cy="1524240"/>
          </a:xfrm>
          <a:prstGeom prst="rect">
            <a:avLst/>
          </a:prstGeom>
          <a:ln w="0">
            <a:noFill/>
          </a:ln>
        </p:spPr>
      </p:pic>
      <p:grpSp>
        <p:nvGrpSpPr>
          <p:cNvPr id="45" name=""/>
          <p:cNvGrpSpPr/>
          <p:nvPr/>
        </p:nvGrpSpPr>
        <p:grpSpPr>
          <a:xfrm>
            <a:off x="7650000" y="260280"/>
            <a:ext cx="1191600" cy="1616400"/>
            <a:chOff x="7650000" y="260280"/>
            <a:chExt cx="1191600" cy="1616400"/>
          </a:xfrm>
        </p:grpSpPr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7650000" y="260280"/>
              <a:ext cx="1191600" cy="1616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VOLUCIÓN ARANCEL ADUANERO CHILE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762120" y="1655640"/>
          <a:ext cx="7848360" cy="447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55640"/>
                    <a:ext cx="7848360" cy="447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908280" y="6248520"/>
            <a:ext cx="288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Banco Central de Chile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49080" y="49370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Times New Roman"/>
              </a:rPr>
              <a:t>6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8172360" y="0"/>
            <a:ext cx="930240" cy="1379520"/>
            <a:chOff x="8172360" y="0"/>
            <a:chExt cx="930240" cy="1379520"/>
          </a:xfrm>
        </p:grpSpPr>
        <p:pic>
          <p:nvPicPr>
            <p:cNvPr id="98" name="" descr=""/>
            <p:cNvPicPr/>
            <p:nvPr/>
          </p:nvPicPr>
          <p:blipFill>
            <a:blip r:embed="rId4"/>
            <a:stretch/>
          </p:blipFill>
          <p:spPr>
            <a:xfrm>
              <a:off x="8172360" y="0"/>
              <a:ext cx="930240" cy="1379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4" name=""/>
          <p:cNvGraphicFramePr/>
          <p:nvPr/>
        </p:nvGraphicFramePr>
        <p:xfrm>
          <a:off x="685800" y="2666880"/>
          <a:ext cx="7620120" cy="2762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666880"/>
                    <a:ext cx="7620120" cy="27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6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7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6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69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1" name=""/>
          <p:cNvGraphicFramePr/>
          <p:nvPr/>
        </p:nvGraphicFramePr>
        <p:xfrm>
          <a:off x="685800" y="2666880"/>
          <a:ext cx="7467480" cy="2706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666880"/>
                    <a:ext cx="7467480" cy="27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3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4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75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76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8" name=""/>
          <p:cNvGraphicFramePr/>
          <p:nvPr/>
        </p:nvGraphicFramePr>
        <p:xfrm>
          <a:off x="1066680" y="2286000"/>
          <a:ext cx="6553440" cy="384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286000"/>
                    <a:ext cx="6553440" cy="38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0" name=""/>
          <p:cNvSpPr/>
          <p:nvPr/>
        </p:nvSpPr>
        <p:spPr>
          <a:xfrm>
            <a:off x="1065240" y="632448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1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82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83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5" name=""/>
          <p:cNvGraphicFramePr/>
          <p:nvPr/>
        </p:nvGraphicFramePr>
        <p:xfrm>
          <a:off x="762120" y="2857680"/>
          <a:ext cx="7543800" cy="239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857680"/>
                    <a:ext cx="7543800" cy="23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7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8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89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90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ESGRAVACIÓN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CHILE - EEU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DESGRAVA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A  4 AÑ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3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244880" cy="1524240"/>
          </a:xfrm>
          <a:prstGeom prst="rect">
            <a:avLst/>
          </a:prstGeom>
          <a:ln w="0">
            <a:noFill/>
          </a:ln>
        </p:spPr>
      </p:pic>
      <p:grpSp>
        <p:nvGrpSpPr>
          <p:cNvPr id="1594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1595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7" name=""/>
          <p:cNvGraphicFramePr/>
          <p:nvPr/>
        </p:nvGraphicFramePr>
        <p:xfrm>
          <a:off x="685800" y="2776680"/>
          <a:ext cx="7543800" cy="273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776680"/>
                    <a:ext cx="7543800" cy="27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9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0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01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02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77240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4" name=""/>
          <p:cNvGraphicFramePr/>
          <p:nvPr/>
        </p:nvGraphicFramePr>
        <p:xfrm>
          <a:off x="838080" y="2695680"/>
          <a:ext cx="7239240" cy="2948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695680"/>
                    <a:ext cx="7239240" cy="29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6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7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0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09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1" name=""/>
          <p:cNvGraphicFramePr/>
          <p:nvPr/>
        </p:nvGraphicFramePr>
        <p:xfrm>
          <a:off x="533520" y="2406600"/>
          <a:ext cx="7391160" cy="267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406600"/>
                    <a:ext cx="7391160" cy="26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3" name=""/>
          <p:cNvSpPr/>
          <p:nvPr/>
        </p:nvSpPr>
        <p:spPr>
          <a:xfrm>
            <a:off x="531720" y="525780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4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15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16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ESGRAVACIÓN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CHILE - EEU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DESGRAV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A  8 AÑ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9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244880" cy="1524240"/>
          </a:xfrm>
          <a:prstGeom prst="rect">
            <a:avLst/>
          </a:prstGeom>
          <a:ln w="0">
            <a:noFill/>
          </a:ln>
        </p:spPr>
      </p:pic>
      <p:grpSp>
        <p:nvGrpSpPr>
          <p:cNvPr id="1620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1621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3" name=""/>
          <p:cNvGraphicFramePr/>
          <p:nvPr/>
        </p:nvGraphicFramePr>
        <p:xfrm>
          <a:off x="762120" y="2614680"/>
          <a:ext cx="6781680" cy="3068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614680"/>
                    <a:ext cx="6781680" cy="30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5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6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27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1628" name="" descr=""/>
            <p:cNvPicPr/>
            <p:nvPr/>
          </p:nvPicPr>
          <p:blipFill>
            <a:blip r:embed="rId4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DÉCADA DE LOS ´90 A LA FEC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CHILE PARTICIPA EN FOROS MULTILATER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SUSCRIPCIÓN DE ACUERDOS BILATER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REDUCCIÓN GRADUAL DE ARANCELES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02" name=""/>
          <p:cNvGrpSpPr/>
          <p:nvPr/>
        </p:nvGrpSpPr>
        <p:grpSpPr>
          <a:xfrm>
            <a:off x="8244000" y="0"/>
            <a:ext cx="866520" cy="1587600"/>
            <a:chOff x="8244000" y="0"/>
            <a:chExt cx="866520" cy="1587600"/>
          </a:xfrm>
        </p:grpSpPr>
        <p:pic>
          <p:nvPicPr>
            <p:cNvPr id="103" name="" descr=""/>
            <p:cNvPicPr/>
            <p:nvPr/>
          </p:nvPicPr>
          <p:blipFill>
            <a:blip r:embed="rId2"/>
            <a:stretch/>
          </p:blipFill>
          <p:spPr>
            <a:xfrm>
              <a:off x="8244000" y="0"/>
              <a:ext cx="866520" cy="1587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ESGRAVACIÓN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CHILE - EEU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DESGRAVA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A 10-12 AÑ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1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244880" cy="1524240"/>
          </a:xfrm>
          <a:prstGeom prst="rect">
            <a:avLst/>
          </a:prstGeom>
          <a:ln w="0">
            <a:noFill/>
          </a:ln>
        </p:spPr>
      </p:pic>
      <p:grpSp>
        <p:nvGrpSpPr>
          <p:cNvPr id="1632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1633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5" name=""/>
          <p:cNvGraphicFramePr/>
          <p:nvPr/>
        </p:nvGraphicFramePr>
        <p:xfrm>
          <a:off x="685800" y="2452680"/>
          <a:ext cx="6553080" cy="355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452680"/>
                    <a:ext cx="6553080" cy="35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7" name=""/>
          <p:cNvSpPr/>
          <p:nvPr/>
        </p:nvSpPr>
        <p:spPr>
          <a:xfrm>
            <a:off x="836640" y="609588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8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39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1640" name="" descr=""/>
            <p:cNvPicPr/>
            <p:nvPr/>
          </p:nvPicPr>
          <p:blipFill>
            <a:blip r:embed="rId4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2" name=""/>
          <p:cNvGraphicFramePr/>
          <p:nvPr/>
        </p:nvGraphicFramePr>
        <p:xfrm>
          <a:off x="1143000" y="2286000"/>
          <a:ext cx="6781680" cy="384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286000"/>
                    <a:ext cx="6781680" cy="38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4" name=""/>
          <p:cNvSpPr/>
          <p:nvPr/>
        </p:nvSpPr>
        <p:spPr>
          <a:xfrm>
            <a:off x="1217520" y="624852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5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46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47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971640" y="476280"/>
            <a:ext cx="7416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UOTAS OTORGADAS POR 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9" name=""/>
          <p:cNvGraphicFramePr/>
          <p:nvPr/>
        </p:nvGraphicFramePr>
        <p:xfrm>
          <a:off x="914400" y="1730520"/>
          <a:ext cx="7315200" cy="3882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730520"/>
                    <a:ext cx="7315200" cy="38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1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2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53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54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IMPACTO DE UN TLC </a:t>
            </a:r>
            <a:br>
              <a:rPr sz="4400"/>
            </a:b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 ENTRE CHILE-EEU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EXPORTACIONES SE EXPANDEN 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US$ </a:t>
            </a: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505,4</a:t>
            </a: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 MILLONES AL AÑO (15,9% SOBRE EL ACTUAL) Y CON 20 MIL EMPLEOS MÁ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DESVÍO COMERCIO: US$ 246,0 MI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NUEVO COMERCIO:  US$ 259,4 MI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838080" y="4114800"/>
            <a:ext cx="73152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8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59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60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IMPACTO DE UN TLC </a:t>
            </a:r>
            <a:br>
              <a:rPr sz="4400"/>
            </a:b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 ENTRE CHILE-EEU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IMPORTACION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US$ 428,3 MI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SILVOAGROPECUARIAS Y PESCA: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US$ 94,3 MI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MINERO-INDUSTRIAL: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US$ 334,0 MI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3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64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65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IMPACTO DE UN TLC </a:t>
            </a:r>
            <a:br>
              <a:rPr sz="4400"/>
            </a:b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 ENTRE CHILE-EEU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EXPORTACIONES: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US$ 505,4 MI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US$ 263,5 MILL SILVOAGROPECU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US$ 241,9 MILL  MINERO-INDUST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8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69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70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ESAFÍOS Y PROYECCIONES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LC 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304560" y="251460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PEQUEÑOS Y MEDIANOS PRODUCTOR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INVERSIONES PARA ACCEDER A MERCAD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RECIMIENTO DEL COMERCIO POR SOBRE EL 10% ANUAL DESPUÉS DEL AÑO 8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EXIGENCIAS LABORALES, MEDIOAMBIENTALES, INOCUIDAD, SEGURIDA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3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74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75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82692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ESAFÍOS Y PROYECCIONES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LC 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ABUSO” SISTEMA ANTIDUMP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DAÑO A LA PRODUCCIÓN DE TRIGO Y REMOLACH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NUEVOS TLC FIRMADOS POR LOS EEU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MODERNIZACIÓN DEL ESTADO Y EMPRESARIOS AGRÍCOL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8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79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80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826560" y="620640"/>
            <a:ext cx="7704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0000"/>
                </a:solidFill>
                <a:latin typeface="Times New Roman"/>
              </a:rPr>
              <a:t>APROXIMACI</a:t>
            </a:r>
            <a:r>
              <a:rPr b="1" lang="es-CL" sz="4400" spc="-1" strike="noStrike">
                <a:solidFill>
                  <a:srgbClr val="ff0000"/>
                </a:solidFill>
                <a:latin typeface="Times New Roman"/>
              </a:rPr>
              <a:t>Ó</a:t>
            </a:r>
            <a:r>
              <a:rPr b="1" lang="es-ES" sz="4400" spc="-1" strike="noStrike">
                <a:solidFill>
                  <a:srgbClr val="ff0000"/>
                </a:solidFill>
                <a:latin typeface="Times New Roman"/>
              </a:rPr>
              <a:t>N PO</a:t>
            </a:r>
            <a:r>
              <a:rPr b="1" lang="es-CL" sz="4400" spc="-1" strike="noStrike">
                <a:solidFill>
                  <a:srgbClr val="ff0000"/>
                </a:solidFill>
                <a:latin typeface="Times New Roman"/>
              </a:rPr>
              <a:t>É</a:t>
            </a:r>
            <a:r>
              <a:rPr b="1" lang="es-ES" sz="4400" spc="-1" strike="noStrike">
                <a:solidFill>
                  <a:srgbClr val="ff0000"/>
                </a:solidFill>
                <a:latin typeface="Times New Roman"/>
              </a:rPr>
              <a:t>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FELICIDAD: te ví de cerca pero no pude hablar contig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¿será mejor el no buscar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¿será mejor el ser altivo en la desgraci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y no sentirse juguete vil de tus caprichos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99"/>
                </a:solidFill>
                <a:latin typeface="Times New Roman"/>
              </a:rPr>
              <a:t>José Santos Chocano (1875-193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3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84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1685" name="" descr=""/>
            <p:cNvPicPr/>
            <p:nvPr/>
          </p:nvPicPr>
          <p:blipFill>
            <a:blip r:embed="rId2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DÉCADA DE LOS ´90 A LA FEC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CONSOLIDACIÓN DE ARANCELES AD-VALOREM DECRECIENTES ANTE OMC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TRIGO, ACEITES Y LECHE EN 31,5 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AZÚCAR EN 98% (2002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EL RESTO SE DEJÓ EN 25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07" name=""/>
          <p:cNvGrpSpPr/>
          <p:nvPr/>
        </p:nvGrpSpPr>
        <p:grpSpPr>
          <a:xfrm>
            <a:off x="8244000" y="0"/>
            <a:ext cx="866520" cy="1587600"/>
            <a:chOff x="8244000" y="0"/>
            <a:chExt cx="866520" cy="1587600"/>
          </a:xfrm>
        </p:grpSpPr>
        <p:pic>
          <p:nvPicPr>
            <p:cNvPr id="108" name="" descr=""/>
            <p:cNvPicPr/>
            <p:nvPr/>
          </p:nvPicPr>
          <p:blipFill>
            <a:blip r:embed="rId2"/>
            <a:stretch/>
          </p:blipFill>
          <p:spPr>
            <a:xfrm>
              <a:off x="8244000" y="0"/>
              <a:ext cx="866520" cy="1587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CONCLU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EL TLC CHILE-EEUU ES UN ACUERDO FAVORABLE PARA LA AGRICULTURA CHILENA, PERO PRESENTA GRANDES DESAFÍOS E INCERTIDUMBRES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8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89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90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762120" y="12193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TLC CHILE-EEUU: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NEGOCIACIÓN PARA EL SECTOR AGRÍCO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 type="subTitle"/>
          </p:nvPr>
        </p:nvSpPr>
        <p:spPr>
          <a:xfrm>
            <a:off x="609480" y="38862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GUSTAVO ROJAS LE-BE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PROFESOR FAC. AGRONOMÍA-U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gusrojas@puc.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3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94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95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DÉCADA DE LOS ´90 A LA FEC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CHILE SE ALINEA CON GRUPO 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CAIRNS</a:t>
            </a: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:                             REDUCCIÓN DE SUBSIDIOS A AGRICULTURA Y MAYOR LIBERALIZACIÓN DEL COMERC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12" name=""/>
          <p:cNvGrpSpPr/>
          <p:nvPr/>
        </p:nvGrpSpPr>
        <p:grpSpPr>
          <a:xfrm>
            <a:off x="8244000" y="0"/>
            <a:ext cx="866520" cy="1658880"/>
            <a:chOff x="8244000" y="0"/>
            <a:chExt cx="866520" cy="1658880"/>
          </a:xfrm>
        </p:grpSpPr>
        <p:pic>
          <p:nvPicPr>
            <p:cNvPr id="113" name="" descr=""/>
            <p:cNvPicPr/>
            <p:nvPr/>
          </p:nvPicPr>
          <p:blipFill>
            <a:blip r:embed="rId2"/>
            <a:stretch/>
          </p:blipFill>
          <p:spPr>
            <a:xfrm>
              <a:off x="8244000" y="0"/>
              <a:ext cx="866520" cy="1658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DÉCADA DE LOS ´90 A LA FEC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APARECEN LOS ACE O ACUERDOS DE COMPLEMENTACIÓN ECONÓM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83: ALA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2: MÉXICO (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3: VENEZUELA (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3: BOLIVIA (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4: COLOMBIA (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17" name=""/>
          <p:cNvGrpSpPr/>
          <p:nvPr/>
        </p:nvGrpSpPr>
        <p:grpSpPr>
          <a:xfrm>
            <a:off x="8244000" y="0"/>
            <a:ext cx="866520" cy="1658880"/>
            <a:chOff x="8244000" y="0"/>
            <a:chExt cx="866520" cy="1658880"/>
          </a:xfrm>
        </p:grpSpPr>
        <p:pic>
          <p:nvPicPr>
            <p:cNvPr id="118" name="" descr=""/>
            <p:cNvPicPr/>
            <p:nvPr/>
          </p:nvPicPr>
          <p:blipFill>
            <a:blip r:embed="rId2"/>
            <a:stretch/>
          </p:blipFill>
          <p:spPr>
            <a:xfrm>
              <a:off x="8244000" y="0"/>
              <a:ext cx="866520" cy="1658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DÉCADA DE LOS ´90 A LA FEC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4: ECUADOR (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6: MERCOSUR (TL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7: CANADÁ (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8: PERÚ (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2002: CENTROAMERICA (TL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2003: U.E. (TL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2003: COREA DEL SUR (TL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22" name=""/>
          <p:cNvGrpSpPr/>
          <p:nvPr/>
        </p:nvGrpSpPr>
        <p:grpSpPr>
          <a:xfrm>
            <a:off x="8172360" y="0"/>
            <a:ext cx="930240" cy="1658880"/>
            <a:chOff x="8172360" y="0"/>
            <a:chExt cx="930240" cy="1658880"/>
          </a:xfrm>
        </p:grpSpPr>
        <p:pic>
          <p:nvPicPr>
            <p:cNvPr id="123" name="" descr=""/>
            <p:cNvPicPr/>
            <p:nvPr/>
          </p:nvPicPr>
          <p:blipFill>
            <a:blip r:embed="rId2"/>
            <a:stretch/>
          </p:blipFill>
          <p:spPr>
            <a:xfrm>
              <a:off x="8172360" y="0"/>
              <a:ext cx="930240" cy="1658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DÉCADA DE LOS ´90 A LA FEC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2003: EEUU (TL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2003: EFTA  (TL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imes New Roman"/>
              </a:rPr>
              <a:t>OTROS ACE O TLC EN ESTUDI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ALC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CHINA, JAPÓN, INDI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NUEVA ZELANDA Y SINGAP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27" name=""/>
          <p:cNvGrpSpPr/>
          <p:nvPr/>
        </p:nvGrpSpPr>
        <p:grpSpPr>
          <a:xfrm>
            <a:off x="8172360" y="0"/>
            <a:ext cx="930240" cy="1658880"/>
            <a:chOff x="8172360" y="0"/>
            <a:chExt cx="930240" cy="1658880"/>
          </a:xfrm>
        </p:grpSpPr>
        <p:pic>
          <p:nvPicPr>
            <p:cNvPr id="128" name="" descr=""/>
            <p:cNvPicPr/>
            <p:nvPr/>
          </p:nvPicPr>
          <p:blipFill>
            <a:blip r:embed="rId2"/>
            <a:stretch/>
          </p:blipFill>
          <p:spPr>
            <a:xfrm>
              <a:off x="8172360" y="0"/>
              <a:ext cx="930240" cy="1658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VOLUCIÓN COMERCIO CHILENO TO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81560" y="60958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422360"/>
          <a:ext cx="7924680" cy="4673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422360"/>
                    <a:ext cx="7924680" cy="46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3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34" name=""/>
          <p:cNvGrpSpPr/>
          <p:nvPr/>
        </p:nvGrpSpPr>
        <p:grpSpPr>
          <a:xfrm>
            <a:off x="8172360" y="0"/>
            <a:ext cx="930240" cy="1446120"/>
            <a:chOff x="8172360" y="0"/>
            <a:chExt cx="930240" cy="1446120"/>
          </a:xfrm>
        </p:grpSpPr>
        <p:pic>
          <p:nvPicPr>
            <p:cNvPr id="135" name="" descr=""/>
            <p:cNvPicPr/>
            <p:nvPr/>
          </p:nvPicPr>
          <p:blipFill>
            <a:blip r:embed="rId4"/>
            <a:stretch/>
          </p:blipFill>
          <p:spPr>
            <a:xfrm>
              <a:off x="8172360" y="0"/>
              <a:ext cx="930240" cy="1446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457200" y="571680"/>
            <a:ext cx="8381880" cy="58212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ookman Old Style"/>
              </a:rPr>
              <a:t>SITUACIÓN NAC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B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77680" cy="1079280"/>
          </a:xfrm>
          <a:prstGeom prst="rect">
            <a:avLst/>
          </a:prstGeom>
          <a:ln w="0">
            <a:noFill/>
          </a:ln>
        </p:spPr>
      </p:pic>
      <p:grpSp>
        <p:nvGrpSpPr>
          <p:cNvPr id="139" name=""/>
          <p:cNvGrpSpPr/>
          <p:nvPr/>
        </p:nvGrpSpPr>
        <p:grpSpPr>
          <a:xfrm>
            <a:off x="8317080" y="0"/>
            <a:ext cx="793440" cy="1166760"/>
            <a:chOff x="8317080" y="0"/>
            <a:chExt cx="793440" cy="1166760"/>
          </a:xfrm>
        </p:grpSpPr>
        <p:pic>
          <p:nvPicPr>
            <p:cNvPr id="140" name="" descr=""/>
            <p:cNvPicPr/>
            <p:nvPr/>
          </p:nvPicPr>
          <p:blipFill>
            <a:blip r:embed="rId3"/>
            <a:stretch/>
          </p:blipFill>
          <p:spPr>
            <a:xfrm>
              <a:off x="8317080" y="0"/>
              <a:ext cx="793440" cy="1166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ARTICIPACIÓN SECTORIAL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N EL PIB N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BN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55720" cy="1052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3" name=""/>
          <p:cNvGraphicFramePr/>
          <p:nvPr/>
        </p:nvGraphicFramePr>
        <p:xfrm>
          <a:off x="-758880" y="1419120"/>
          <a:ext cx="9178920" cy="4716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758880" y="1419120"/>
                    <a:ext cx="9178920" cy="47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678240" y="6093000"/>
            <a:ext cx="288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Banco Central de Chile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47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BREVE HIS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5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48: CHILE SUSCRIBE EL GAT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(ACUERDO GENERAL DE ARANCELES ADUANERO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SE CREA LA OMC (1995) Y SE REALIZAN 8 RONDAS DE NEGOCIACIONES COMERCIALES MULTILATER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50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51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0000"/>
                </a:solidFill>
                <a:latin typeface="Times New Roman"/>
              </a:rPr>
              <a:t>CHILE:</a:t>
            </a:r>
            <a:br>
              <a:rPr sz="3600"/>
            </a:br>
            <a:r>
              <a:rPr b="1" lang="es-CL" sz="3600" spc="-1" strike="noStrike">
                <a:solidFill>
                  <a:srgbClr val="ff0000"/>
                </a:solidFill>
                <a:latin typeface="Times New Roman"/>
              </a:rPr>
              <a:t>PIB DE LA AGRICULTU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838080" y="1600200"/>
          <a:ext cx="7239240" cy="441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00200"/>
                    <a:ext cx="723924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1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893880" y="6165720"/>
            <a:ext cx="288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Banco Central de Chile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8331120" y="0"/>
            <a:ext cx="781920" cy="1307160"/>
            <a:chOff x="8331120" y="0"/>
            <a:chExt cx="781920" cy="1307160"/>
          </a:xfrm>
        </p:grpSpPr>
        <p:pic>
          <p:nvPicPr>
            <p:cNvPr id="154" name="" descr=""/>
            <p:cNvPicPr/>
            <p:nvPr/>
          </p:nvPicPr>
          <p:blipFill>
            <a:blip r:embed="rId4"/>
            <a:stretch/>
          </p:blipFill>
          <p:spPr>
            <a:xfrm>
              <a:off x="8331120" y="0"/>
              <a:ext cx="781920" cy="130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ARTICIPACIÓN DEL PIB SILVOAGROPECUARIO POR SECTOR PRODUCTIVO (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BN" descr=""/>
          <p:cNvPicPr/>
          <p:nvPr/>
        </p:nvPicPr>
        <p:blipFill>
          <a:blip r:embed="rId1"/>
          <a:stretch/>
        </p:blipFill>
        <p:spPr>
          <a:xfrm>
            <a:off x="0" y="0"/>
            <a:ext cx="857160" cy="1052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"/>
          <p:cNvGraphicFramePr/>
          <p:nvPr/>
        </p:nvGraphicFramePr>
        <p:xfrm>
          <a:off x="250920" y="2133720"/>
          <a:ext cx="8435880" cy="3840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2133720"/>
                    <a:ext cx="8435880" cy="38401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908280" y="6248520"/>
            <a:ext cx="288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Banco Central de Chile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8332920" y="0"/>
            <a:ext cx="780120" cy="1307160"/>
            <a:chOff x="8332920" y="0"/>
            <a:chExt cx="780120" cy="1307160"/>
          </a:xfrm>
        </p:grpSpPr>
        <p:pic>
          <p:nvPicPr>
            <p:cNvPr id="161" name="" descr=""/>
            <p:cNvPicPr/>
            <p:nvPr/>
          </p:nvPicPr>
          <p:blipFill>
            <a:blip r:embed="rId4"/>
            <a:stretch/>
          </p:blipFill>
          <p:spPr>
            <a:xfrm>
              <a:off x="8332920" y="0"/>
              <a:ext cx="780120" cy="130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391520" cy="60962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ookman Old Style"/>
              </a:rPr>
              <a:t>COMERCIO EXTERI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B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77680" cy="1079280"/>
          </a:xfrm>
          <a:prstGeom prst="rect">
            <a:avLst/>
          </a:prstGeom>
          <a:ln w="0">
            <a:noFill/>
          </a:ln>
        </p:spPr>
      </p:pic>
      <p:grpSp>
        <p:nvGrpSpPr>
          <p:cNvPr id="165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166" name="" descr=""/>
            <p:cNvPicPr/>
            <p:nvPr/>
          </p:nvPicPr>
          <p:blipFill>
            <a:blip r:embed="rId3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VOLUCIÓN COMERCIO SILVOAGROPECUARIO TO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685800" y="1579680"/>
          <a:ext cx="8001000" cy="459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79680"/>
                    <a:ext cx="8001000" cy="45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781560" y="60958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72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173" name="" descr=""/>
            <p:cNvPicPr/>
            <p:nvPr/>
          </p:nvPicPr>
          <p:blipFill>
            <a:blip r:embed="rId4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0000"/>
                </a:solidFill>
                <a:latin typeface="Times New Roman"/>
              </a:rPr>
              <a:t>PRINCIPALES PRODUCTOS EXPORTADOS (MM US$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695160" y="1851120"/>
          <a:ext cx="7851960" cy="428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5160" y="1851120"/>
                    <a:ext cx="7851960" cy="428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7" name="BN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1031760" cy="12682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781560" y="60958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180" name="" descr=""/>
            <p:cNvPicPr/>
            <p:nvPr/>
          </p:nvPicPr>
          <p:blipFill>
            <a:blip r:embed="rId4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0000"/>
                </a:solidFill>
                <a:latin typeface="Times New Roman"/>
              </a:rPr>
              <a:t>PRINCIPALES PRODUCTOS IMPORTADOS (MM US$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703440" y="1709640"/>
          <a:ext cx="7657920" cy="443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3440" y="1709640"/>
                    <a:ext cx="7657920" cy="44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4" name="BN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1031760" cy="12682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781560" y="60958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8115480" y="0"/>
            <a:ext cx="989280" cy="1657080"/>
            <a:chOff x="8115480" y="0"/>
            <a:chExt cx="989280" cy="1657080"/>
          </a:xfrm>
        </p:grpSpPr>
        <p:pic>
          <p:nvPicPr>
            <p:cNvPr id="187" name="" descr=""/>
            <p:cNvPicPr/>
            <p:nvPr/>
          </p:nvPicPr>
          <p:blipFill>
            <a:blip r:embed="rId4"/>
            <a:stretch/>
          </p:blipFill>
          <p:spPr>
            <a:xfrm>
              <a:off x="8115480" y="0"/>
              <a:ext cx="989280" cy="1657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99640" y="456840"/>
            <a:ext cx="75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HILE-MÉX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838080" y="1413000"/>
          <a:ext cx="7658280" cy="4887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413000"/>
                    <a:ext cx="7658280" cy="48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1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752760" y="630864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8331120" y="0"/>
            <a:ext cx="781920" cy="1307160"/>
            <a:chOff x="8331120" y="0"/>
            <a:chExt cx="781920" cy="1307160"/>
          </a:xfrm>
        </p:grpSpPr>
        <p:pic>
          <p:nvPicPr>
            <p:cNvPr id="194" name="" descr=""/>
            <p:cNvPicPr/>
            <p:nvPr/>
          </p:nvPicPr>
          <p:blipFill>
            <a:blip r:embed="rId4"/>
            <a:stretch/>
          </p:blipFill>
          <p:spPr>
            <a:xfrm>
              <a:off x="8331120" y="0"/>
              <a:ext cx="781920" cy="130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HILE-VENEZUE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B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7" name=""/>
          <p:cNvGraphicFramePr/>
          <p:nvPr/>
        </p:nvGraphicFramePr>
        <p:xfrm>
          <a:off x="914400" y="1557360"/>
          <a:ext cx="7543800" cy="4843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1557360"/>
                    <a:ext cx="7543800" cy="48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752760" y="638172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201" name="" descr=""/>
            <p:cNvPicPr/>
            <p:nvPr/>
          </p:nvPicPr>
          <p:blipFill>
            <a:blip r:embed="rId4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CHILE-PER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914400" y="1562040"/>
          <a:ext cx="7391520" cy="4891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562040"/>
                    <a:ext cx="7391520" cy="48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5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684360" cy="8384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752760" y="65530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8420040" y="0"/>
            <a:ext cx="696600" cy="1166760"/>
            <a:chOff x="8420040" y="0"/>
            <a:chExt cx="696600" cy="1166760"/>
          </a:xfrm>
        </p:grpSpPr>
        <p:pic>
          <p:nvPicPr>
            <p:cNvPr id="208" name="" descr=""/>
            <p:cNvPicPr/>
            <p:nvPr/>
          </p:nvPicPr>
          <p:blipFill>
            <a:blip r:embed="rId4"/>
            <a:stretch/>
          </p:blipFill>
          <p:spPr>
            <a:xfrm>
              <a:off x="8420040" y="0"/>
              <a:ext cx="696600" cy="1166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CHILE-COLOMB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684360" y="1465200"/>
          <a:ext cx="8135640" cy="4988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465200"/>
                    <a:ext cx="8135640" cy="498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2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684360" cy="8384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52760" y="65530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8418600" y="0"/>
            <a:ext cx="698040" cy="1166760"/>
            <a:chOff x="8418600" y="0"/>
            <a:chExt cx="698040" cy="1166760"/>
          </a:xfrm>
        </p:grpSpPr>
        <p:pic>
          <p:nvPicPr>
            <p:cNvPr id="215" name="" descr=""/>
            <p:cNvPicPr/>
            <p:nvPr/>
          </p:nvPicPr>
          <p:blipFill>
            <a:blip r:embed="rId4"/>
            <a:stretch/>
          </p:blipFill>
          <p:spPr>
            <a:xfrm>
              <a:off x="8418600" y="0"/>
              <a:ext cx="698040" cy="1166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BREVE HIS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1960: TRATADO DE MONTEVIDEO: SE CREÓ LA ALALC.     </a:t>
            </a:r>
            <a:r>
              <a:rPr b="1" i="1" lang="es-ES_tradnl" sz="2400" spc="-1" strike="noStrike">
                <a:solidFill>
                  <a:srgbClr val="333399"/>
                </a:solidFill>
                <a:latin typeface="Times New Roman"/>
              </a:rPr>
              <a:t>(ASOCIACIÓN LATINOAMERICANA DE LIBRE COMERCIO</a:t>
            </a: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).     FRACAS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1980: PAÍSES LATINOAMERICANOS CREARON  ALADI.         (</a:t>
            </a:r>
            <a:r>
              <a:rPr b="1" i="1" lang="es-ES_tradnl" sz="2400" spc="-1" strike="noStrike">
                <a:solidFill>
                  <a:srgbClr val="333399"/>
                </a:solidFill>
                <a:latin typeface="Times New Roman"/>
              </a:rPr>
              <a:t>ASOCIACIÓN LATINOAMERICANA DE INTEGRACIÓN</a:t>
            </a: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55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56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CHILE-ECU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826920" y="1557360"/>
          <a:ext cx="7921800" cy="504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557360"/>
                    <a:ext cx="792180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9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684360" cy="8384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752760" y="65530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8375760" y="0"/>
            <a:ext cx="739080" cy="1235880"/>
            <a:chOff x="8375760" y="0"/>
            <a:chExt cx="739080" cy="1235880"/>
          </a:xfrm>
        </p:grpSpPr>
        <p:pic>
          <p:nvPicPr>
            <p:cNvPr id="222" name="" descr=""/>
            <p:cNvPicPr/>
            <p:nvPr/>
          </p:nvPicPr>
          <p:blipFill>
            <a:blip r:embed="rId4"/>
            <a:stretch/>
          </p:blipFill>
          <p:spPr>
            <a:xfrm>
              <a:off x="8375760" y="0"/>
              <a:ext cx="739080" cy="1235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CHILE-BOLIV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826920" y="1557360"/>
          <a:ext cx="7777440" cy="49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557360"/>
                    <a:ext cx="7777440" cy="49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6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684360" cy="8384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52760" y="65530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8331120" y="0"/>
            <a:ext cx="781920" cy="1307160"/>
            <a:chOff x="8331120" y="0"/>
            <a:chExt cx="781920" cy="1307160"/>
          </a:xfrm>
        </p:grpSpPr>
        <p:pic>
          <p:nvPicPr>
            <p:cNvPr id="229" name="" descr=""/>
            <p:cNvPicPr/>
            <p:nvPr/>
          </p:nvPicPr>
          <p:blipFill>
            <a:blip r:embed="rId4"/>
            <a:stretch/>
          </p:blipFill>
          <p:spPr>
            <a:xfrm>
              <a:off x="8331120" y="0"/>
              <a:ext cx="781920" cy="130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CHILE-CANAD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900000" y="1557360"/>
          <a:ext cx="7417080" cy="504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557360"/>
                    <a:ext cx="741708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3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684360" cy="8384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824400" y="65530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8375760" y="0"/>
            <a:ext cx="739080" cy="1235880"/>
            <a:chOff x="8375760" y="0"/>
            <a:chExt cx="739080" cy="1235880"/>
          </a:xfrm>
        </p:grpSpPr>
        <p:pic>
          <p:nvPicPr>
            <p:cNvPr id="236" name="" descr=""/>
            <p:cNvPicPr/>
            <p:nvPr/>
          </p:nvPicPr>
          <p:blipFill>
            <a:blip r:embed="rId4"/>
            <a:stretch/>
          </p:blipFill>
          <p:spPr>
            <a:xfrm>
              <a:off x="8375760" y="0"/>
              <a:ext cx="739080" cy="1235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CHILE-MERCOS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762120" y="1668600"/>
          <a:ext cx="8096040" cy="458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68600"/>
                    <a:ext cx="8096040" cy="458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0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684360" cy="83844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752760" y="623736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8332920" y="0"/>
            <a:ext cx="780120" cy="1307160"/>
            <a:chOff x="8332920" y="0"/>
            <a:chExt cx="780120" cy="1307160"/>
          </a:xfrm>
        </p:grpSpPr>
        <p:pic>
          <p:nvPicPr>
            <p:cNvPr id="243" name="" descr=""/>
            <p:cNvPicPr/>
            <p:nvPr/>
          </p:nvPicPr>
          <p:blipFill>
            <a:blip r:embed="rId4"/>
            <a:stretch/>
          </p:blipFill>
          <p:spPr>
            <a:xfrm>
              <a:off x="8332920" y="0"/>
              <a:ext cx="780120" cy="130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71640" y="4568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CONCLUSIÓN ACUER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465120" y="2208240"/>
          <a:ext cx="8178840" cy="312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2208240"/>
                    <a:ext cx="8178840" cy="31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7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248" name=""/>
          <p:cNvGrpSpPr/>
          <p:nvPr/>
        </p:nvGrpSpPr>
        <p:grpSpPr>
          <a:xfrm>
            <a:off x="8331120" y="0"/>
            <a:ext cx="781920" cy="1307160"/>
            <a:chOff x="8331120" y="0"/>
            <a:chExt cx="781920" cy="1307160"/>
          </a:xfrm>
        </p:grpSpPr>
        <p:pic>
          <p:nvPicPr>
            <p:cNvPr id="249" name="" descr=""/>
            <p:cNvPicPr/>
            <p:nvPr/>
          </p:nvPicPr>
          <p:blipFill>
            <a:blip r:embed="rId4"/>
            <a:stretch/>
          </p:blipFill>
          <p:spPr>
            <a:xfrm>
              <a:off x="8331120" y="0"/>
              <a:ext cx="781920" cy="130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143000" y="201600"/>
            <a:ext cx="7010280" cy="6297480"/>
          </a:xfrm>
          <a:prstGeom prst="rect">
            <a:avLst/>
          </a:prstGeom>
          <a:ln w="0">
            <a:noFill/>
          </a:ln>
        </p:spPr>
      </p:pic>
      <p:pic>
        <p:nvPicPr>
          <p:cNvPr id="251" name="B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77680" cy="1079280"/>
          </a:xfrm>
          <a:prstGeom prst="rect">
            <a:avLst/>
          </a:prstGeom>
          <a:ln w="0">
            <a:noFill/>
          </a:ln>
        </p:spPr>
      </p:pic>
      <p:grpSp>
        <p:nvGrpSpPr>
          <p:cNvPr id="252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253" name="" descr=""/>
            <p:cNvPicPr/>
            <p:nvPr/>
          </p:nvPicPr>
          <p:blipFill>
            <a:blip r:embed="rId3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ESTRATEGIA EXPORTADO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TIPO DE CAMBIO AL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PROMOCIÓN DE EXPORT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APERTURA CUENTA DE CAPI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ACUERDOS DE DOBLE TRIBU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FACILITAR FLUJO DE INVER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ACUERDOS COMERCIALES Y RESPETO A OM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MEJORAR INFRAESTRUCTURA N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257" name=""/>
          <p:cNvGrpSpPr/>
          <p:nvPr/>
        </p:nvGrpSpPr>
        <p:grpSpPr>
          <a:xfrm>
            <a:off x="8375760" y="0"/>
            <a:ext cx="739080" cy="1235880"/>
            <a:chOff x="8375760" y="0"/>
            <a:chExt cx="739080" cy="1235880"/>
          </a:xfrm>
        </p:grpSpPr>
        <p:pic>
          <p:nvPicPr>
            <p:cNvPr id="258" name="" descr=""/>
            <p:cNvPicPr/>
            <p:nvPr/>
          </p:nvPicPr>
          <p:blipFill>
            <a:blip r:embed="rId2"/>
            <a:stretch/>
          </p:blipFill>
          <p:spPr>
            <a:xfrm>
              <a:off x="8375760" y="0"/>
              <a:ext cx="739080" cy="1235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ESTRATEGIA EXPORTADO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PROTECCIÓN DE DERECHOS LEGALES DE EXPORTADO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PROMOCIÓN DE INNOVACIONES TECNOLÓGIC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ESTÍMULO PARA INCORPORAR PYMES A PROCESO EXPORTAD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8375760" y="0"/>
            <a:ext cx="739080" cy="1235880"/>
            <a:chOff x="8375760" y="0"/>
            <a:chExt cx="739080" cy="1235880"/>
          </a:xfrm>
        </p:grpSpPr>
        <p:pic>
          <p:nvPicPr>
            <p:cNvPr id="263" name="" descr=""/>
            <p:cNvPicPr/>
            <p:nvPr/>
          </p:nvPicPr>
          <p:blipFill>
            <a:blip r:embed="rId2"/>
            <a:stretch/>
          </p:blipFill>
          <p:spPr>
            <a:xfrm>
              <a:off x="8375760" y="0"/>
              <a:ext cx="739080" cy="1235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26560" y="90756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ESTRATEGIA EXPORTADO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PROMOCIÓN DE EXPORTACIONES CON MAYOR VALOR AGREG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REDUCIR BARRERAS Y OBSTÁCULOS AL COMERCIO EN EL PAÍS Y EN EL EXTERI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MEJOR COORDINACIÓN DE LA POLÍTICA COMERCI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267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268" name="" descr=""/>
            <p:cNvPicPr/>
            <p:nvPr/>
          </p:nvPicPr>
          <p:blipFill>
            <a:blip r:embed="rId2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772400" cy="6246720"/>
          </a:xfrm>
          <a:prstGeom prst="rect">
            <a:avLst/>
          </a:prstGeom>
          <a:ln w="0">
            <a:noFill/>
          </a:ln>
        </p:spPr>
      </p:pic>
      <p:pic>
        <p:nvPicPr>
          <p:cNvPr id="270" name="B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77680" cy="1079280"/>
          </a:xfrm>
          <a:prstGeom prst="rect">
            <a:avLst/>
          </a:prstGeom>
          <a:ln w="0">
            <a:noFill/>
          </a:ln>
        </p:spPr>
      </p:pic>
      <p:grpSp>
        <p:nvGrpSpPr>
          <p:cNvPr id="271" name=""/>
          <p:cNvGrpSpPr/>
          <p:nvPr/>
        </p:nvGrpSpPr>
        <p:grpSpPr>
          <a:xfrm>
            <a:off x="8420040" y="0"/>
            <a:ext cx="696600" cy="1166760"/>
            <a:chOff x="8420040" y="0"/>
            <a:chExt cx="696600" cy="1166760"/>
          </a:xfrm>
        </p:grpSpPr>
        <p:pic>
          <p:nvPicPr>
            <p:cNvPr id="272" name="" descr=""/>
            <p:cNvPicPr/>
            <p:nvPr/>
          </p:nvPicPr>
          <p:blipFill>
            <a:blip r:embed="rId3"/>
            <a:stretch/>
          </p:blipFill>
          <p:spPr>
            <a:xfrm>
              <a:off x="8420040" y="0"/>
              <a:ext cx="696600" cy="1166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BREVE HIS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1980: CON ALADI SE RENEGOCIÓ EL “PATRIMONIO HISTÓRICO” O VENTAJAS RECÍPROCAS YA NEGOCIADAS PARCIALMENTE EN ALAL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DESARROLLO HACIA ADENTRO CON PREDOMINIO INDUSTRIAL POR SOBRE BIENES PRIMAR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0000"/>
                </a:solidFill>
                <a:latin typeface="Times New Roman"/>
              </a:rPr>
              <a:t>TLC</a:t>
            </a:r>
            <a:br>
              <a:rPr sz="4400"/>
            </a:br>
            <a:r>
              <a:rPr b="1" lang="es-CL" sz="4400" spc="-1" strike="noStrike">
                <a:solidFill>
                  <a:srgbClr val="ff0000"/>
                </a:solidFill>
                <a:latin typeface="Times New Roman"/>
              </a:rPr>
              <a:t>CHILE - EE.UU.</a:t>
            </a:r>
            <a:br>
              <a:rPr sz="4400"/>
            </a:br>
            <a:r>
              <a:rPr b="1" lang="es-CL" sz="4400" spc="-1" strike="noStrike">
                <a:solidFill>
                  <a:srgbClr val="ff0000"/>
                </a:solidFill>
                <a:latin typeface="Times New Roman"/>
              </a:rPr>
              <a:t>Y LA AGRICULTURA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244880" cy="1524240"/>
          </a:xfrm>
          <a:prstGeom prst="rect">
            <a:avLst/>
          </a:prstGeom>
          <a:ln w="0">
            <a:noFill/>
          </a:ln>
        </p:spPr>
      </p:pic>
      <p:grpSp>
        <p:nvGrpSpPr>
          <p:cNvPr id="275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276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762120" y="1703520"/>
          <a:ext cx="7924680" cy="431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703520"/>
                    <a:ext cx="792468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"/>
          <p:cNvSpPr/>
          <p:nvPr/>
        </p:nvSpPr>
        <p:spPr>
          <a:xfrm>
            <a:off x="911520" y="601992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282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283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br>
              <a:rPr sz="4000"/>
            </a:b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SECTOR AGRÍCO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50560" y="2205000"/>
            <a:ext cx="851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AGRICULTURAS SON COMPLEMENTARIAS Y NO COMPETITIV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AGRICULTURA DE EE.UU. ES MUY SUBSIDIA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287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288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68436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CHILE-EEUU </a:t>
            </a:r>
            <a:br>
              <a:rPr sz="4000"/>
            </a:b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SECTOR AGRÍCO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" y="1981080"/>
            <a:ext cx="7772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333399"/>
                </a:solidFill>
                <a:uFillTx/>
                <a:latin typeface="Times New Roman"/>
              </a:rPr>
              <a:t>CONTRIBUCIÓN AL PIB (%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CHILE:     4.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EEUU:       0.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EL PIB AGRÍCOLA DE ESTADOS UNIDOS ES 29,5 VECES MAYOR QUE EL PIB CHILE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069560" y="6095880"/>
            <a:ext cx="362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uente: Banco Central de Chile y USDA, 2004</a:t>
            </a:r>
            <a:r>
              <a:rPr b="0" lang="es-CL" sz="2400" spc="-1" strike="noStrike">
                <a:solidFill>
                  <a:srgbClr val="000099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29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29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685800" y="1981080"/>
            <a:ext cx="81532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333399"/>
                </a:solidFill>
                <a:uFillTx/>
                <a:latin typeface="Times New Roman"/>
              </a:rPr>
              <a:t>NÚMERO DE PREDIO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CHILE:       32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EEUU:      2.20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912240" y="5834160"/>
            <a:ext cx="216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uente: INE y USD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436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CHILE-EEUU </a:t>
            </a:r>
            <a:br>
              <a:rPr sz="4000"/>
            </a:b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SECTOR AGRÍCO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299" name=""/>
          <p:cNvGrpSpPr/>
          <p:nvPr/>
        </p:nvGrpSpPr>
        <p:grpSpPr>
          <a:xfrm>
            <a:off x="8115480" y="0"/>
            <a:ext cx="989280" cy="1657080"/>
            <a:chOff x="8115480" y="0"/>
            <a:chExt cx="989280" cy="1657080"/>
          </a:xfrm>
        </p:grpSpPr>
        <p:pic>
          <p:nvPicPr>
            <p:cNvPr id="300" name="" descr=""/>
            <p:cNvPicPr/>
            <p:nvPr/>
          </p:nvPicPr>
          <p:blipFill>
            <a:blip r:embed="rId2"/>
            <a:stretch/>
          </p:blipFill>
          <p:spPr>
            <a:xfrm>
              <a:off x="8115480" y="0"/>
              <a:ext cx="989280" cy="1657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685800" y="2438280"/>
            <a:ext cx="77724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333399"/>
                </a:solidFill>
                <a:uFillTx/>
                <a:latin typeface="Times New Roman"/>
              </a:rPr>
              <a:t>EXPORTACIONES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 ( miles MMUS$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CHILE:       5.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EEUU:       56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972360" y="5680080"/>
            <a:ext cx="24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uente: Odepa y USDA, 2004</a:t>
            </a:r>
            <a:r>
              <a:rPr b="0" lang="es-CL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8436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CHILE-EEUU </a:t>
            </a:r>
            <a:br>
              <a:rPr sz="4000"/>
            </a:b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SECTOR AGRÍCO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05" name=""/>
          <p:cNvGrpSpPr/>
          <p:nvPr/>
        </p:nvGrpSpPr>
        <p:grpSpPr>
          <a:xfrm>
            <a:off x="8115480" y="0"/>
            <a:ext cx="989280" cy="1657080"/>
            <a:chOff x="8115480" y="0"/>
            <a:chExt cx="989280" cy="1657080"/>
          </a:xfrm>
        </p:grpSpPr>
        <p:pic>
          <p:nvPicPr>
            <p:cNvPr id="306" name="" descr=""/>
            <p:cNvPicPr/>
            <p:nvPr/>
          </p:nvPicPr>
          <p:blipFill>
            <a:blip r:embed="rId2"/>
            <a:stretch/>
          </p:blipFill>
          <p:spPr>
            <a:xfrm>
              <a:off x="8115480" y="0"/>
              <a:ext cx="989280" cy="1657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762120" y="251460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333399"/>
                </a:solidFill>
                <a:uFillTx/>
                <a:latin typeface="Times New Roman"/>
              </a:rPr>
              <a:t>IMPORTACIONES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 (miles MMUS$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CHILE:       1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EEUU:       45.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972000" y="5981760"/>
            <a:ext cx="239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uente: Odepa y USDA, 2004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436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CHILE-EEUU </a:t>
            </a:r>
            <a:br>
              <a:rPr sz="4000"/>
            </a:b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SECTOR AGRÍCO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11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12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2514600"/>
            <a:ext cx="83818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CHILE  EXPORTÓ A EE.UU EL 2003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US$ 1.857 Mill==</a:t>
            </a: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US$ 6,5 PER CÁP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EE.UU. EXPORTÓ A CHILE EL 2003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US$  235 Mill== </a:t>
            </a: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US$ 15,6 PER CÁP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cc33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19720" y="5832360"/>
            <a:ext cx="24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uente: Odepa y USDA, 2004</a:t>
            </a:r>
            <a:r>
              <a:rPr b="0" lang="es-CL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8436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CHILE-EEUU </a:t>
            </a:r>
            <a:br>
              <a:rPr sz="4000"/>
            </a:b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SECTOR AGRÍCO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17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18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685800" y="1981080"/>
            <a:ext cx="77724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PRESUPUESTO FISCAL (2003) PARA EL SECTOR AGRICULTU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CHILE: Mill. US$ 3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US$  22,6 PER CÁP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EEUU:   Mill. US$ 75.8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US$  265 PER CÁP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11880" y="621504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uente: Odepa y USDA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8436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CHILE-EEUU </a:t>
            </a:r>
            <a:br>
              <a:rPr sz="4000"/>
            </a:b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SECTOR AGRÍCO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2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2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ONTENIDOS DE UN TLC</a:t>
            </a:r>
            <a:br>
              <a:rPr sz="3600"/>
            </a:b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br>
              <a:rPr sz="3600"/>
            </a:b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(www.direcon.cl; www.sofofa.cl; www.manualtlc.cl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.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DISPOSICIONES Y DEFINICIONES GENE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ACCESO A MERC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3.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REGLAS DE ORI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4.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ADMINISTRACIÓN ADUA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5.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SALVAGUARDIAS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: GLOBALES; BILATERALES; ESPECIALES: TEXTILES Y AGRÍCO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28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329" name="" descr=""/>
            <p:cNvPicPr/>
            <p:nvPr/>
          </p:nvPicPr>
          <p:blipFill>
            <a:blip r:embed="rId2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BREVE HIS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A PARTIR DE 1975 EN ADELANTE, CHILE ADOPTA POLÍTICA DE APERTURA: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   “</a:t>
            </a: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PRODUCCIÓN DE BIENES CON VENTAJAS COMPARATIVAS O ADQUISICIÓN DE BIENES BARATOS EN EL EXTERIOR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65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66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ONTENIDOS DE UN TLC </a:t>
            </a:r>
            <a:br>
              <a:rPr sz="3600"/>
            </a:b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6.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ANTIDUM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7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BARRERAS TÉCNICAS AL COMER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8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ASUNTOS SANITARIOS Y FITOSANIT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9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INVER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0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MOVIMIENTO DE CAPITAL Y BALANZA DE PAG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3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3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ONTENIDOS DE UN TLC </a:t>
            </a:r>
            <a:br>
              <a:rPr sz="3600"/>
            </a:b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1.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SERVICIOS Y COMERCIO                                               TRANSFRONTERIZ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2.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ENTRADA TEMPORAL DE PERSONAS 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DE NEGO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3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TELECOMUNIC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4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SERVICIOS FINANCIE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5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COMERCIO ELECTRÓN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39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ONTENIDOS DE UN TLC</a:t>
            </a:r>
            <a:br>
              <a:rPr sz="3600"/>
            </a:b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6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COMPRAS PÚBLIC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7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PROPIEDAD INTELEC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8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MEDIO AMB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9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ASUNTOS LABO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0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SOLUCIÓN DE CONTROVERS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1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MONOPOLIOS Y EMPRESAS DEL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    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ES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4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4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CONTENIDOS DE UN TLC CHILE-EEU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83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2. 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TRANSPAR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3. 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DMINISTRACIÓN DEL TL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4. 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EXCEPCION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5. 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DISPOSICIONES FI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6. 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NEX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BN" descr=""/>
          <p:cNvPicPr/>
          <p:nvPr/>
        </p:nvPicPr>
        <p:blipFill>
          <a:blip r:embed="rId1"/>
          <a:stretch/>
        </p:blipFill>
        <p:spPr>
          <a:xfrm>
            <a:off x="0" y="0"/>
            <a:ext cx="1168560" cy="1436760"/>
          </a:xfrm>
          <a:prstGeom prst="rect">
            <a:avLst/>
          </a:prstGeom>
          <a:ln w="0">
            <a:noFill/>
          </a:ln>
        </p:spPr>
      </p:pic>
      <p:grpSp>
        <p:nvGrpSpPr>
          <p:cNvPr id="348" name=""/>
          <p:cNvGrpSpPr/>
          <p:nvPr/>
        </p:nvGrpSpPr>
        <p:grpSpPr>
          <a:xfrm>
            <a:off x="8115480" y="0"/>
            <a:ext cx="989280" cy="1657080"/>
            <a:chOff x="8115480" y="0"/>
            <a:chExt cx="989280" cy="1657080"/>
          </a:xfrm>
        </p:grpSpPr>
        <p:pic>
          <p:nvPicPr>
            <p:cNvPr id="349" name="" descr=""/>
            <p:cNvPicPr/>
            <p:nvPr/>
          </p:nvPicPr>
          <p:blipFill>
            <a:blip r:embed="rId2"/>
            <a:stretch/>
          </p:blipFill>
          <p:spPr>
            <a:xfrm>
              <a:off x="8115480" y="0"/>
              <a:ext cx="989280" cy="1657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25328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ESTRATEGIA NEGOCIADORA PARA SECTOR PRIV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ESTUDIO DE IMPACTO POR SECTOR PRODUCTI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FIJAR PRIORIDADES CLARAS Y CON ANTICIP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INCORPORAR PRIORIDADES EN EL EQUIPO NEGOCIADOR, EVITANDO CONFRONTACIÓN ENTRE SECTORES PRODUCTI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5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5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ESTRATEG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REALIZAR FRECUENTES REUNIONES CON EQUIPO NEGOCIAD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COMPAÑAR AL EQUIPO NEGOCIADOR EN “CUARTO DEL LADO”  EN TODAS LAS RONDAS DE NEGOCI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TOMAR CONTACTO INFORMAL CON EQUIPO NEGOCIADOR DEL OTRO PAÍ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58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59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ESTRATEG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REALIZAR NUMEROSAS REUNIONES CON REPRESENTANTES DE RUBROS ORGANIZADOS PARA SOLICITAR OPINIÓN Y RESPALDO FRENTE A FLEXIBILIZAR  POSI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PARTICIPAR ACTIVAMENTE EN REUNIONES A TODO NIVEL PARA AFIANZAR POSICIONES “DURAS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63" name=""/>
          <p:cNvGrpSpPr/>
          <p:nvPr/>
        </p:nvGrpSpPr>
        <p:grpSpPr>
          <a:xfrm>
            <a:off x="8115480" y="0"/>
            <a:ext cx="989280" cy="1657080"/>
            <a:chOff x="8115480" y="0"/>
            <a:chExt cx="989280" cy="1657080"/>
          </a:xfrm>
        </p:grpSpPr>
        <p:pic>
          <p:nvPicPr>
            <p:cNvPr id="364" name="" descr=""/>
            <p:cNvPicPr/>
            <p:nvPr/>
          </p:nvPicPr>
          <p:blipFill>
            <a:blip r:embed="rId2"/>
            <a:stretch/>
          </p:blipFill>
          <p:spPr>
            <a:xfrm>
              <a:off x="8115480" y="0"/>
              <a:ext cx="989280" cy="1657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ESTRATEG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CONOCER RESULTADOS DE SECTORES PRIVADOS DE OTROS PAÍSES QUE YA TUVIERON LA EXPERIENCIA NEGOCIADO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TRABAJAR MUY INTENSAMENTE CON LA PRENSA NACIONAL PARA AFIANZAR POSICIONES ANTE LA OPINIÓN PÚBL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68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69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ESTRATEG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VISITAR A GREMIOS EN LOS EE.UU. PAR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I)-VENDER LA IDEA DE “SOCIEDAD”  EN RUBROS ATRACTI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II)-SOLICITAR INVERSIONES PARA AGRANDAR LOS NEGOC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III)-REDUCIRLES EL MIEDO A NEGOCI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7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7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ESTRATEG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CONTRATAR “LOBISTAS” EN LOS EE.U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CELERAR RITMO DE NEGOCIACIONES PARA TRATAR TEMAS CONFLICTIVOS EN LAS PRIMERAS REUN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78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79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BREVE HIS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SE PROFUNDIZA CONCEPTO DE MERCADO COMO BASE DE ASIGNACIÓN DE RECURSO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RESULTADOS MUY POSITIVOS PERO CON ALGUNOS SECTORES DAÑ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70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71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ESTRATEG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PARTICIPAR EN TODAS LAS REUNIONES EN LOS EE.UU. CON LOS STAFFERS, CONGRESISTAS, GOBERNADORES,  LOBISTAS,  GREMIOS, BANCOS  Y EMPRESAS INFLUYENTES PARA SOLICITAR APOYO A PLANTEAMIENTOS DE INTERÉ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POYARSE MUCHO EN AMCH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8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8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PRIORIDADES POR SECTOR </a:t>
            </a:r>
            <a:br>
              <a:rPr sz="4000"/>
            </a:b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O RUB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AGRÍCOL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MANTENER BANDAS DE PREC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BRIR MERCADO PARA LÁCTEOS, CARNES ROJAS, AGROINDUST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CONSOLIDAR EL “SGP” PARA LA FRUTA FRESCA Y FOREST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388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389" name="" descr=""/>
            <p:cNvPicPr/>
            <p:nvPr/>
          </p:nvPicPr>
          <p:blipFill>
            <a:blip r:embed="rId2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PRIORIDADES POR SECTOR </a:t>
            </a:r>
            <a:br>
              <a:rPr sz="4000"/>
            </a:b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O RUB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AGRÍCOL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NO NEGOCIAR ARANCELES PARA VIN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NO NEGOCIAR COMERCIO DE PRODUCTOS SUBSIDI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PROTEGER CARNES NEGRAS DE A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39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9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PRIORIDADES POR SECTOR </a:t>
            </a:r>
            <a:br>
              <a:rPr sz="4000"/>
            </a:b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O RUB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MINERÍA: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RANCEL CERO INMEDIA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TEXTILES: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RANCEL CERO INMEDIA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INDUSTRI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RANCEL CERO INMEDIA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39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399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PRIORIDADES POR SECTOR </a:t>
            </a:r>
            <a:br>
              <a:rPr sz="4000"/>
            </a:b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O RUB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SERVICIOS: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LIBERTAD PARA ACCEDER A MERC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BANCA: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RESTRICCIONES DE INGRESO A CH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MANTENCIÓN DEL “ENCAJE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03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04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528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PRIORIDADES POR SECTOR</a:t>
            </a:r>
            <a:br>
              <a:rPr sz="4000"/>
            </a:b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O RUB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INDUSTRIA AUTOMOTRÍZ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POSTERGAR ACCESO;  MANTENER “IMPUESTO AL LUJO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PESCA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RANCEL CERO INMEDIATO Y MANTENER LAS 200 MILL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08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409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PRIORIDA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OTROS TEMAS DE INTERÉS PARA EL ACUERD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SOLUCIÓN DE CONTROVERS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OTROS TEMAS DE INTERÉS PARA CH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DERECHOS DE PROPIEDAD INTELECTUAL Y COMER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LEY ANTIDUMPING EN EEU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41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41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PRIORIDA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4560" y="220968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OTROS TEMAS DE INTERÉS PARA CH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RESTRICCIONES LABORALES Y AMBIENT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ELIMINACIÓN DE BARRERAS PARA-ARANCELAR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INVERSIONES: INCENTIVAR.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418" name=""/>
          <p:cNvGrpSpPr/>
          <p:nvPr/>
        </p:nvGrpSpPr>
        <p:grpSpPr>
          <a:xfrm>
            <a:off x="8115480" y="0"/>
            <a:ext cx="989280" cy="1657080"/>
            <a:chOff x="8115480" y="0"/>
            <a:chExt cx="989280" cy="1657080"/>
          </a:xfrm>
        </p:grpSpPr>
        <p:pic>
          <p:nvPicPr>
            <p:cNvPr id="419" name="" descr=""/>
            <p:cNvPicPr/>
            <p:nvPr/>
          </p:nvPicPr>
          <p:blipFill>
            <a:blip r:embed="rId2"/>
            <a:stretch/>
          </p:blipFill>
          <p:spPr>
            <a:xfrm>
              <a:off x="8115480" y="0"/>
              <a:ext cx="989280" cy="1657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ESULTADOS PARA EL SECTOR SILVOAGROPECUARIO</a:t>
            </a:r>
            <a:br>
              <a:rPr sz="4400"/>
            </a:b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TL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CHILE-EEU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B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423" name=""/>
          <p:cNvGrpSpPr/>
          <p:nvPr/>
        </p:nvGrpSpPr>
        <p:grpSpPr>
          <a:xfrm>
            <a:off x="8331120" y="0"/>
            <a:ext cx="781920" cy="1307160"/>
            <a:chOff x="8331120" y="0"/>
            <a:chExt cx="781920" cy="1307160"/>
          </a:xfrm>
        </p:grpSpPr>
        <p:pic>
          <p:nvPicPr>
            <p:cNvPr id="424" name="" descr=""/>
            <p:cNvPicPr/>
            <p:nvPr/>
          </p:nvPicPr>
          <p:blipFill>
            <a:blip r:embed="rId2"/>
            <a:stretch/>
          </p:blipFill>
          <p:spPr>
            <a:xfrm>
              <a:off x="8331120" y="0"/>
              <a:ext cx="781920" cy="130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SPECTOS GENE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853452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AL CABO SE 12 AÑOS, SE ELIMINAN TODOS LOS ARANCELES    AD-VALOREM  Y ESPECÍFICOS PARA TODOS LOS PRODUCTOS  SILVOAGROPECUARIOS,  SIN EXCEP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SE ESTABLECIÓ QUE NO HABRÁ COMERCIO ENTRE CHILE Y EEUU DE PRODUCTOS QUE RECIBEN SUBSIDIOS A LA EXPORT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2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29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DÉCADA DE LOS ´85 A´9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CAMBIO LIB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REBAJA ARANCELARIA UNILATER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FACILIDAD OPERACIONAL EN COMERCIO EXTERI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PROGRAMA DE PROMOCIÓN DE EXPORTA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GRAN INVERSIÓN EXTER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75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76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SPECTOS GENE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Times New Roman"/>
              </a:rPr>
              <a:t>SE CONSOLIDÓ EL SISTEMA GENERAL DE PREFERENCIAS (SGP) PARA LA GRAN MAYORÍA DE LOS PRODUCT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Times New Roman"/>
              </a:rPr>
              <a:t>SE ESTABLECIÓ UNA SALVAGUARDIA AGRÍCOLA BILATERAL, CON   </a:t>
            </a:r>
            <a:r>
              <a:rPr b="1" lang="es-CL" sz="2800" spc="-1" strike="noStrike">
                <a:solidFill>
                  <a:srgbClr val="ff0000"/>
                </a:solidFill>
                <a:latin typeface="Times New Roman"/>
              </a:rPr>
              <a:t>28</a:t>
            </a:r>
            <a:r>
              <a:rPr b="1" lang="es-CL" sz="2800" spc="-1" strike="noStrike">
                <a:solidFill>
                  <a:srgbClr val="333399"/>
                </a:solidFill>
                <a:latin typeface="Times New Roman"/>
              </a:rPr>
              <a:t> PRODUCTOS POR PARTE DE EE.UU. Y </a:t>
            </a:r>
            <a:r>
              <a:rPr b="1" lang="es-CL" sz="2800" spc="-1" strike="noStrike">
                <a:solidFill>
                  <a:srgbClr val="ff0000"/>
                </a:solidFill>
                <a:latin typeface="Times New Roman"/>
              </a:rPr>
              <a:t>12 </a:t>
            </a:r>
            <a:r>
              <a:rPr b="1" lang="es-CL" sz="2800" spc="-1" strike="noStrike">
                <a:solidFill>
                  <a:srgbClr val="333399"/>
                </a:solidFill>
                <a:latin typeface="Times New Roman"/>
              </a:rPr>
              <a:t>POR PARTE DE CH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33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434" name="" descr=""/>
            <p:cNvPicPr/>
            <p:nvPr/>
          </p:nvPicPr>
          <p:blipFill>
            <a:blip r:embed="rId2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SPECTOS GENE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SE NEGOCIÓ UNA DESGRAVACIÓN LINEAL ANUAL PARA TODOS LOS PRODUCTOS QUE NO ESTÁN AFECTOS  A 12 AÑOS DE DESGRAV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LOS PRODUCTOS AFECTOS A CUOTAS, TIENEN UNA TASA DE CRECIMIENTO ANUAL COMPUESTA Y VARIABLE PARA CADA PRODUC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3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39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SPECTOS GENE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Times New Roman"/>
              </a:rPr>
              <a:t>SI EN ALGÚN PRODUCTO QUE NO ESTÁ EN DESGRAVACIÓN INMEDIATA O AFECTO AL SGP, CHILE O LOS EEUU SOBREPASAN EL </a:t>
            </a:r>
            <a:r>
              <a:rPr b="1" lang="es-CL" sz="3200" spc="-1" strike="noStrike">
                <a:solidFill>
                  <a:srgbClr val="333399"/>
                </a:solidFill>
                <a:latin typeface="Times New Roman"/>
              </a:rPr>
              <a:t>50%</a:t>
            </a:r>
            <a:r>
              <a:rPr b="1" lang="es-CL" sz="2800" spc="-1" strike="noStrike">
                <a:solidFill>
                  <a:srgbClr val="333399"/>
                </a:solidFill>
                <a:latin typeface="Times New Roman"/>
              </a:rPr>
              <a:t> DE LAS IMPORTACIONES O ENVÍA MAS DE US$ </a:t>
            </a:r>
            <a:r>
              <a:rPr b="1" lang="es-CL" sz="3200" spc="-1" strike="noStrike">
                <a:solidFill>
                  <a:srgbClr val="333399"/>
                </a:solidFill>
                <a:latin typeface="Times New Roman"/>
              </a:rPr>
              <a:t>110 MILL</a:t>
            </a:r>
            <a:r>
              <a:rPr b="1" lang="es-CL" sz="2800" spc="-1" strike="noStrike">
                <a:solidFill>
                  <a:srgbClr val="333399"/>
                </a:solidFill>
                <a:latin typeface="Times New Roman"/>
              </a:rPr>
              <a:t>, SE PODRÍA APLICAR UN ALZA ARANCELARIA QUE PODRÍA DEJAR EL ARANCEL A NIVEL FUERA DEL SG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43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44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SPECTOS GENE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DEL TOTAL DE PRODUCTOS IMPORTADOS POR CHILE DESDE LOS EEUU, EL 88,5% QUEDÓ EN DESGRAVACIÓN INMEDIATA.               POR EL CONTRARIO, EL 87% DE LOS PRODUCTOS EXPORTADOS POR CHILE A EEUU QUEDÓ CON DESGRAVACIÓN INMEDI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48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449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SPECTOS GENE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EN CUANTO A PRODUCTOS AGROPECUARIOS, EL 55% DE LAS IMPORTACIONES DESDE EEUU ESTÁN AFECTAS A DESGRAVACIÓN INMEDIATA Y EL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84%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DE LOS PRODUCTOS CHILENOS INGRESARÁN A EEUU CON CERO ARANCEL INMEDIATO, UNA VEZ QUE SE INICIE EL ACUER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5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45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391520" cy="6096240"/>
          </a:xfrm>
          <a:prstGeom prst="rect">
            <a:avLst/>
          </a:prstGeom>
          <a:ln w="0">
            <a:noFill/>
          </a:ln>
        </p:spPr>
      </p:pic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ookman Old Style"/>
              </a:rPr>
              <a:t>COMERCIO EXTERI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7" name="B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77680" cy="1079280"/>
          </a:xfrm>
          <a:prstGeom prst="rect">
            <a:avLst/>
          </a:prstGeom>
          <a:ln w="0">
            <a:noFill/>
          </a:ln>
        </p:spPr>
      </p:pic>
      <p:grpSp>
        <p:nvGrpSpPr>
          <p:cNvPr id="458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459" name="" descr=""/>
            <p:cNvPicPr/>
            <p:nvPr/>
          </p:nvPicPr>
          <p:blipFill>
            <a:blip r:embed="rId3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ANÁLISIS SEC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4920" y="1773000"/>
            <a:ext cx="861048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ff0000"/>
                </a:solidFill>
                <a:uFillTx/>
                <a:latin typeface="Times New Roman"/>
              </a:rPr>
              <a:t>FRUTAS Y HORTALIZAS FRES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Times New Roman"/>
              </a:rPr>
              <a:t>CONSOLIDACIÓN DEL SGP:</a:t>
            </a:r>
            <a:r>
              <a:rPr b="0" lang="es-CL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se asegura la continuidad de arancel cero para la gran mayoría de los productos. Entre las excepciones se encuentran las clementinas, naranjas, almendras e higos con desgravación a 4 años, limones y alcachofas con 8 añ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Times New Roman"/>
              </a:rPr>
              <a:t>CUOTA PALTAS:</a:t>
            </a:r>
            <a:r>
              <a:rPr b="0" lang="es-CL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49.000 TON.                            34.000 oct-dic y 15.000 resto del año                       (65% del volúmen exportado a EEUU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6877080" y="4846680"/>
            <a:ext cx="1962000" cy="1763640"/>
          </a:xfrm>
          <a:prstGeom prst="rect">
            <a:avLst/>
          </a:prstGeom>
          <a:ln w="0">
            <a:noFill/>
          </a:ln>
        </p:spPr>
      </p:pic>
      <p:pic>
        <p:nvPicPr>
          <p:cNvPr id="463" name="BN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464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465" name="" descr=""/>
            <p:cNvPicPr/>
            <p:nvPr/>
          </p:nvPicPr>
          <p:blipFill>
            <a:blip r:embed="rId3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FORES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CONSOLIDACIÓN DEL SGP: ARANCEL CERO, INMEDIATO Y PERMANENTE.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(TODOS LOS PRODUCTO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469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70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ANÁLISIS SEC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0000"/>
                </a:solidFill>
                <a:uFillTx/>
                <a:latin typeface="Times New Roman"/>
              </a:rPr>
              <a:t>VI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DESGRAVACIÓN EN 12 AÑOS QUE PARTE DESDE EL 5% DE ARANCEL VIGENTE PARA VINO A GRAN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SE CONCEDERÁN A CHILE, TODOS LOS BENEFICIOS QUE SE OTORGUEN A TERCEROS PAÍSES EN CUANTO A CONDICIONES DE MERCADO EN LOS EEU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SE “CONSOLIDÓ” EL TEMA MARCAR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171360" y="2017800"/>
            <a:ext cx="8801280" cy="2759040"/>
            <a:chOff x="171360" y="2017800"/>
            <a:chExt cx="8801280" cy="2759040"/>
          </a:xfrm>
        </p:grpSpPr>
        <p:sp>
          <p:nvSpPr>
            <p:cNvPr id="474" name=""/>
            <p:cNvSpPr/>
            <p:nvPr/>
          </p:nvSpPr>
          <p:spPr>
            <a:xfrm>
              <a:off x="171360" y="2017800"/>
              <a:ext cx="8801280" cy="84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71360" y="2017800"/>
              <a:ext cx="8801280" cy="275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en-US" sz="175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6" name="" descr="Alto de Terra Andina">
            <a:hlinkClick r:id="rId2"/>
          </p:cNvPr>
          <p:cNvPicPr/>
          <p:nvPr/>
        </p:nvPicPr>
        <p:blipFill>
          <a:blip r:embed="rId3"/>
          <a:srcRect l="14669" t="0" r="31999" b="19199"/>
          <a:stretch/>
        </p:blipFill>
        <p:spPr>
          <a:xfrm>
            <a:off x="7543800" y="4613400"/>
            <a:ext cx="1523880" cy="2244600"/>
          </a:xfrm>
          <a:prstGeom prst="rect">
            <a:avLst/>
          </a:prstGeom>
          <a:ln w="0">
            <a:noFill/>
          </a:ln>
        </p:spPr>
      </p:pic>
      <p:pic>
        <p:nvPicPr>
          <p:cNvPr id="477" name="BN" descr=""/>
          <p:cNvPicPr/>
          <p:nvPr/>
        </p:nvPicPr>
        <p:blipFill>
          <a:blip r:embed="rId4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47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79" name="" descr=""/>
            <p:cNvPicPr/>
            <p:nvPr/>
          </p:nvPicPr>
          <p:blipFill>
            <a:blip r:embed="rId5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295280" y="457200"/>
            <a:ext cx="6553440" cy="6172200"/>
          </a:xfrm>
          <a:prstGeom prst="rect">
            <a:avLst/>
          </a:prstGeom>
          <a:ln w="0">
            <a:noFill/>
          </a:ln>
        </p:spPr>
      </p:pic>
      <p:pic>
        <p:nvPicPr>
          <p:cNvPr id="481" name="B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77680" cy="1079280"/>
          </a:xfrm>
          <a:prstGeom prst="rect">
            <a:avLst/>
          </a:prstGeom>
          <a:ln w="0">
            <a:noFill/>
          </a:ln>
        </p:spPr>
      </p:pic>
      <p:grpSp>
        <p:nvGrpSpPr>
          <p:cNvPr id="482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83" name="" descr=""/>
            <p:cNvPicPr/>
            <p:nvPr/>
          </p:nvPicPr>
          <p:blipFill>
            <a:blip r:embed="rId3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16000" y="189000"/>
            <a:ext cx="69120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0000"/>
                </a:solidFill>
                <a:latin typeface="Times New Roman"/>
              </a:rPr>
              <a:t>EVOLUCIÓN DEL TIPO DE CAMB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971640" y="1003320"/>
          <a:ext cx="7200720" cy="5522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003320"/>
                    <a:ext cx="7200720" cy="55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0" name="BN" descr=""/>
          <p:cNvPicPr/>
          <p:nvPr/>
        </p:nvPicPr>
        <p:blipFill>
          <a:blip r:embed="rId3"/>
          <a:stretch/>
        </p:blipFill>
        <p:spPr>
          <a:xfrm>
            <a:off x="0" y="0"/>
            <a:ext cx="973080" cy="1197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749520" y="6553080"/>
            <a:ext cx="288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Banco Central de Chile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83" name="" descr=""/>
            <p:cNvPicPr/>
            <p:nvPr/>
          </p:nvPicPr>
          <p:blipFill>
            <a:blip r:embed="rId4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ANÁLISIS SEC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CAR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ERDOS Y OVINOS: DESGRAVACIÓN INMEDI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BOVINOS: SE OBTUVO UNA CUOTA D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.000 TO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 Y DESGRAVACIÓN A    4 AÑOS PARA ENVÍOS FUERA DE LA CUO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6553080" y="5232240"/>
            <a:ext cx="2210040" cy="1473480"/>
          </a:xfrm>
          <a:prstGeom prst="rect">
            <a:avLst/>
          </a:prstGeom>
          <a:ln w="0">
            <a:noFill/>
          </a:ln>
        </p:spPr>
      </p:pic>
      <p:pic>
        <p:nvPicPr>
          <p:cNvPr id="487" name="BN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48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89" name="" descr=""/>
            <p:cNvPicPr/>
            <p:nvPr/>
          </p:nvPicPr>
          <p:blipFill>
            <a:blip r:embed="rId3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ANÁLISIS SEC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CAR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VES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PAVOS Y POLLOS ENTEROS, DESGRAVACIÓN INMEDIATA RECÍPRO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PARA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ROZOS DE AVES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SE NEGOCIÓ UNA CUOTA RECÍPROCA DE 8.000 TON/AÑO CON CRECIMIENTO DE 5% ANUAL Y DESGRAVACIÓN FUERA DE CUOTA EN 10 AÑOS, CON 2 AÑOS DE GRACIA Y 8 DE DESGRAVACIÓN LINEAL COMENZANDO CON UN ARANCEL DE 25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2" name="B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493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494" name="" descr=""/>
            <p:cNvPicPr/>
            <p:nvPr/>
          </p:nvPicPr>
          <p:blipFill>
            <a:blip r:embed="rId2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ANÁLISIS SEC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0000"/>
                </a:solidFill>
                <a:uFillTx/>
                <a:latin typeface="Times New Roman"/>
              </a:rPr>
              <a:t>LÁCTE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SE OBTUVO UNA CUOTA DE INGRESO LIBRE INMEDIATO DE </a:t>
            </a:r>
            <a:r>
              <a:rPr b="1" lang="es-CL" sz="2800" spc="-1" strike="noStrike">
                <a:solidFill>
                  <a:srgbClr val="ff0000"/>
                </a:solidFill>
                <a:latin typeface="Times New Roman"/>
              </a:rPr>
              <a:t>3.501 TON.</a:t>
            </a:r>
            <a:r>
              <a:rPr b="0" lang="es-CL" sz="3200" spc="-1" strike="noStrike">
                <a:solidFill>
                  <a:srgbClr val="333399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Times New Roman"/>
              </a:rPr>
              <a:t>1.432 TON DE QUESOS Y 2.069 TON PARA MANTEQUILLA, LECHE EN POLVO, LECHE CONDENSADA, MANJAR Y O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INCREMENTO DE LA CUOTA:  </a:t>
            </a:r>
            <a:r>
              <a:rPr b="1" lang="es-CL" sz="2800" spc="-1" strike="noStrike">
                <a:solidFill>
                  <a:srgbClr val="ff0000"/>
                </a:solidFill>
                <a:latin typeface="Times New Roman"/>
              </a:rPr>
              <a:t>7% ANU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FUERA DE CUOTA LOS PRODUCTOS SE DESGRAVARÁN LINEALMENTE A PARTIR DEL AÑO </a:t>
            </a:r>
            <a:r>
              <a:rPr b="1" lang="es-CL" sz="2800" spc="-1" strike="noStrike">
                <a:solidFill>
                  <a:srgbClr val="ff0000"/>
                </a:solidFill>
                <a:latin typeface="Times New Roman"/>
              </a:rPr>
              <a:t>8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PARA IMPORTACIONES FUERA DE CUOTA DESDE EEUU SE OTORGÓ UNA DESGRAVACIÓN A CUATRO AÑ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7" name="B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49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99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ANÁLISIS SEC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0000"/>
                </a:solidFill>
                <a:uFillTx/>
                <a:latin typeface="Times New Roman"/>
              </a:rPr>
              <a:t>AGROINDUST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99"/>
                </a:solidFill>
                <a:latin typeface="Times New Roman"/>
              </a:rPr>
              <a:t>DESGRAVACIÓN ENTRE 8 Y 12 AÑOS PARA LA GRAN MAYORÍA DE LOS PRODUCTOS.                                                      (CONSERVAS, CONGELADOS PULPAS Y JUG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99"/>
                </a:solidFill>
                <a:latin typeface="Times New Roman"/>
              </a:rPr>
              <a:t>EXISTENCIA DE SALVAGUARDIAS PARA ALGUNOS CONGELADOS Y PULP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2" name="B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503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504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39280" y="5490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LGUNOS PRODUCTOS AFECTOS A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ALVAGUARDIA (SGP CONDICIONADO)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OR PARTE DE EEU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468360" y="2133720"/>
          <a:ext cx="8261280" cy="424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133720"/>
                    <a:ext cx="8261280" cy="42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08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/>
          <p:nvPr/>
        </p:nvSpPr>
        <p:spPr>
          <a:xfrm>
            <a:off x="753840" y="62373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511" name="" descr=""/>
            <p:cNvPicPr/>
            <p:nvPr/>
          </p:nvPicPr>
          <p:blipFill>
            <a:blip r:embed="rId4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LGUNOS PRODUCTOS AFECTOS A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ALVAGUARDIA (SGP CONDICIONADO)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OR PARTE DE EEU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592200" y="1900080"/>
          <a:ext cx="8389800" cy="430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2200" y="1900080"/>
                    <a:ext cx="8389800" cy="430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15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682560" y="630864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518" name="" descr=""/>
            <p:cNvPicPr/>
            <p:nvPr/>
          </p:nvPicPr>
          <p:blipFill>
            <a:blip r:embed="rId4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ALVAGUARDIAS INTERPUESTAS POR CH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0" name=""/>
          <p:cNvGraphicFramePr/>
          <p:nvPr/>
        </p:nvGraphicFramePr>
        <p:xfrm>
          <a:off x="689040" y="2062080"/>
          <a:ext cx="8103960" cy="408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040" y="2062080"/>
                    <a:ext cx="8103960" cy="40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2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825480" y="62373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525" name="" descr=""/>
            <p:cNvPicPr/>
            <p:nvPr/>
          </p:nvPicPr>
          <p:blipFill>
            <a:blip r:embed="rId4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ALVAGUARDIAS INTERPUESTAS POR CH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695160" y="2062080"/>
          <a:ext cx="7840800" cy="408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5160" y="2062080"/>
                    <a:ext cx="7840800" cy="40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9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825480" y="630864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532" name="" descr=""/>
            <p:cNvPicPr/>
            <p:nvPr/>
          </p:nvPicPr>
          <p:blipFill>
            <a:blip r:embed="rId4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ANÁLISIS SEC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0000"/>
                </a:solidFill>
                <a:uFillTx/>
                <a:latin typeface="Times New Roman"/>
              </a:rPr>
              <a:t>TRI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99"/>
                </a:solidFill>
                <a:latin typeface="Times New Roman"/>
              </a:rPr>
              <a:t>SE MANTIENE LA BANDA DE PRECIOS MODIFICADA DE ACUERDO A LAS EXIGENCIAS OMC POR </a:t>
            </a:r>
            <a:r>
              <a:rPr b="1" lang="es-CL" sz="3200" spc="-1" strike="noStrike">
                <a:solidFill>
                  <a:srgbClr val="ff0000"/>
                </a:solidFill>
                <a:latin typeface="Times New Roman"/>
              </a:rPr>
              <a:t>12 AÑ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7318440" y="4267080"/>
            <a:ext cx="1563480" cy="2295720"/>
          </a:xfrm>
          <a:prstGeom prst="rect">
            <a:avLst/>
          </a:prstGeom>
          <a:ln w="0">
            <a:noFill/>
          </a:ln>
        </p:spPr>
      </p:pic>
      <p:pic>
        <p:nvPicPr>
          <p:cNvPr id="536" name="BN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537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538" name="" descr=""/>
            <p:cNvPicPr/>
            <p:nvPr/>
          </p:nvPicPr>
          <p:blipFill>
            <a:blip r:embed="rId3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ESGRAVACIÓN TRIGO CON ACUERDO 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8699400" y="2008080"/>
            <a:ext cx="47880" cy="4200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41520" y="6162840"/>
            <a:ext cx="8105760" cy="45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11280" y="1978200"/>
            <a:ext cx="8088120" cy="41846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536840" y="2301840"/>
            <a:ext cx="702468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536840" y="2301840"/>
            <a:ext cx="7024680" cy="30891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706400" y="2611440"/>
            <a:ext cx="247680" cy="2779560"/>
            <a:chOff x="1706400" y="2611440"/>
            <a:chExt cx="247680" cy="2779560"/>
          </a:xfrm>
        </p:grpSpPr>
        <p:sp>
          <p:nvSpPr>
            <p:cNvPr id="546" name=""/>
            <p:cNvSpPr/>
            <p:nvPr/>
          </p:nvSpPr>
          <p:spPr>
            <a:xfrm>
              <a:off x="1706400" y="2611440"/>
              <a:ext cx="24768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706400" y="2641680"/>
              <a:ext cx="24768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706400" y="2671920"/>
              <a:ext cx="247680" cy="3168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706400" y="2703600"/>
              <a:ext cx="247680" cy="1584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706400" y="2719440"/>
              <a:ext cx="247680" cy="3024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706400" y="2749680"/>
              <a:ext cx="247680" cy="3168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706400" y="2781360"/>
              <a:ext cx="247680" cy="302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706400" y="2811600"/>
              <a:ext cx="247680" cy="2988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706400" y="2841480"/>
              <a:ext cx="247680" cy="3204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706400" y="2873520"/>
              <a:ext cx="247680" cy="2988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706400" y="2903400"/>
              <a:ext cx="247680" cy="32040"/>
            </a:xfrm>
            <a:prstGeom prst="rect">
              <a:avLst/>
            </a:prstGeom>
            <a:solidFill>
              <a:srgbClr val="4b4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706400" y="2935440"/>
              <a:ext cx="247680" cy="1584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706400" y="2951280"/>
              <a:ext cx="247680" cy="29880"/>
            </a:xfrm>
            <a:prstGeom prst="rect">
              <a:avLst/>
            </a:prstGeom>
            <a:solidFill>
              <a:srgbClr val="4c4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706400" y="2981160"/>
              <a:ext cx="247680" cy="302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706400" y="3011400"/>
              <a:ext cx="247680" cy="3168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706400" y="3043080"/>
              <a:ext cx="247680" cy="3024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706400" y="3073320"/>
              <a:ext cx="247680" cy="31680"/>
            </a:xfrm>
            <a:prstGeom prst="rect">
              <a:avLst/>
            </a:prstGeom>
            <a:solidFill>
              <a:srgbClr val="5050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706400" y="3105000"/>
              <a:ext cx="247680" cy="30240"/>
            </a:xfrm>
            <a:prstGeom prst="rect">
              <a:avLst/>
            </a:prstGeom>
            <a:solidFill>
              <a:srgbClr val="505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706400" y="3135240"/>
              <a:ext cx="247680" cy="31680"/>
            </a:xfrm>
            <a:prstGeom prst="rect">
              <a:avLst/>
            </a:prstGeom>
            <a:solidFill>
              <a:srgbClr val="515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706400" y="3166920"/>
              <a:ext cx="247680" cy="1440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706400" y="3181320"/>
              <a:ext cx="247680" cy="31680"/>
            </a:xfrm>
            <a:prstGeom prst="rect">
              <a:avLst/>
            </a:prstGeom>
            <a:solidFill>
              <a:srgbClr val="535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706400" y="3213000"/>
              <a:ext cx="247680" cy="30240"/>
            </a:xfrm>
            <a:prstGeom prst="rect">
              <a:avLst/>
            </a:prstGeom>
            <a:solidFill>
              <a:srgbClr val="545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706400" y="3243240"/>
              <a:ext cx="247680" cy="31680"/>
            </a:xfrm>
            <a:prstGeom prst="rect">
              <a:avLst/>
            </a:prstGeom>
            <a:solidFill>
              <a:srgbClr val="555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706400" y="3274920"/>
              <a:ext cx="247680" cy="3024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706400" y="3305160"/>
              <a:ext cx="247680" cy="3168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706400" y="3336840"/>
              <a:ext cx="247680" cy="30240"/>
            </a:xfrm>
            <a:prstGeom prst="rect">
              <a:avLst/>
            </a:prstGeom>
            <a:solidFill>
              <a:srgbClr val="595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706400" y="3367080"/>
              <a:ext cx="247680" cy="316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706400" y="3398760"/>
              <a:ext cx="247680" cy="1440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706400" y="3413160"/>
              <a:ext cx="247680" cy="3168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706400" y="3444840"/>
              <a:ext cx="247680" cy="30240"/>
            </a:xfrm>
            <a:prstGeom prst="rect">
              <a:avLst/>
            </a:prstGeom>
            <a:solidFill>
              <a:srgbClr val="5d5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706400" y="3475080"/>
              <a:ext cx="247680" cy="3168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706400" y="3506760"/>
              <a:ext cx="247680" cy="30240"/>
            </a:xfrm>
            <a:prstGeom prst="rect">
              <a:avLst/>
            </a:prstGeom>
            <a:solidFill>
              <a:srgbClr val="606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706400" y="3537000"/>
              <a:ext cx="247680" cy="3168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706400" y="3568680"/>
              <a:ext cx="247680" cy="30240"/>
            </a:xfrm>
            <a:prstGeom prst="rect">
              <a:avLst/>
            </a:prstGeom>
            <a:solidFill>
              <a:srgbClr val="636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706400" y="3598920"/>
              <a:ext cx="247680" cy="31680"/>
            </a:xfrm>
            <a:prstGeom prst="rect">
              <a:avLst/>
            </a:prstGeom>
            <a:solidFill>
              <a:srgbClr val="646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706400" y="3630600"/>
              <a:ext cx="247680" cy="1440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706400" y="3645000"/>
              <a:ext cx="247680" cy="31680"/>
            </a:xfrm>
            <a:prstGeom prst="rect">
              <a:avLst/>
            </a:prstGeom>
            <a:solidFill>
              <a:srgbClr val="666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706400" y="3676680"/>
              <a:ext cx="247680" cy="3024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706400" y="3706920"/>
              <a:ext cx="247680" cy="3168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706400" y="3738600"/>
              <a:ext cx="247680" cy="302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706400" y="3768840"/>
              <a:ext cx="247680" cy="31680"/>
            </a:xfrm>
            <a:prstGeom prst="rect">
              <a:avLst/>
            </a:prstGeom>
            <a:solidFill>
              <a:srgbClr val="6d6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706400" y="3800520"/>
              <a:ext cx="247680" cy="30240"/>
            </a:xfrm>
            <a:prstGeom prst="rect">
              <a:avLst/>
            </a:prstGeom>
            <a:solidFill>
              <a:srgbClr val="6e6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706400" y="3830760"/>
              <a:ext cx="247680" cy="3168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706400" y="3862440"/>
              <a:ext cx="247680" cy="1440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706400" y="3876840"/>
              <a:ext cx="247680" cy="3168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706400" y="3908520"/>
              <a:ext cx="247680" cy="30240"/>
            </a:xfrm>
            <a:prstGeom prst="rect">
              <a:avLst/>
            </a:prstGeom>
            <a:solidFill>
              <a:srgbClr val="737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706400" y="3938760"/>
              <a:ext cx="247680" cy="3168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706400" y="3970440"/>
              <a:ext cx="247680" cy="3024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706400" y="4000680"/>
              <a:ext cx="247680" cy="31680"/>
            </a:xfrm>
            <a:prstGeom prst="rect">
              <a:avLst/>
            </a:prstGeom>
            <a:solidFill>
              <a:srgbClr val="787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706400" y="4032360"/>
              <a:ext cx="247680" cy="29880"/>
            </a:xfrm>
            <a:prstGeom prst="rect">
              <a:avLst/>
            </a:prstGeom>
            <a:solidFill>
              <a:srgbClr val="797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706400" y="4062240"/>
              <a:ext cx="247680" cy="3204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706400" y="4094280"/>
              <a:ext cx="247680" cy="140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706400" y="4108320"/>
              <a:ext cx="247680" cy="32040"/>
            </a:xfrm>
            <a:prstGeom prst="rect">
              <a:avLst/>
            </a:prstGeom>
            <a:solidFill>
              <a:srgbClr val="7c7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706400" y="4140360"/>
              <a:ext cx="247680" cy="2988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706400" y="4170240"/>
              <a:ext cx="247680" cy="3204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706400" y="4202280"/>
              <a:ext cx="247680" cy="2988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706400" y="4232160"/>
              <a:ext cx="247680" cy="3204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706400" y="4264200"/>
              <a:ext cx="247680" cy="29880"/>
            </a:xfrm>
            <a:prstGeom prst="rect">
              <a:avLst/>
            </a:prstGeom>
            <a:solidFill>
              <a:srgbClr val="838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706400" y="4294080"/>
              <a:ext cx="247680" cy="302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706400" y="4324320"/>
              <a:ext cx="247680" cy="1584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706400" y="4340160"/>
              <a:ext cx="247680" cy="31680"/>
            </a:xfrm>
            <a:prstGeom prst="rect">
              <a:avLst/>
            </a:prstGeom>
            <a:solidFill>
              <a:srgbClr val="868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706400" y="4371840"/>
              <a:ext cx="247680" cy="302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706400" y="4402080"/>
              <a:ext cx="247680" cy="3168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706400" y="4433760"/>
              <a:ext cx="247680" cy="3024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706400" y="4464000"/>
              <a:ext cx="247680" cy="3024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706400" y="4494240"/>
              <a:ext cx="247680" cy="31680"/>
            </a:xfrm>
            <a:prstGeom prst="rect">
              <a:avLst/>
            </a:prstGeom>
            <a:solidFill>
              <a:srgbClr val="8b8b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706400" y="4525920"/>
              <a:ext cx="247680" cy="30240"/>
            </a:xfrm>
            <a:prstGeom prst="rect">
              <a:avLst/>
            </a:prstGeom>
            <a:solidFill>
              <a:srgbClr val="8c8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706400" y="4556160"/>
              <a:ext cx="247680" cy="15840"/>
            </a:xfrm>
            <a:prstGeom prst="rect">
              <a:avLst/>
            </a:prstGeom>
            <a:solidFill>
              <a:srgbClr val="8c8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706400" y="4572000"/>
              <a:ext cx="247680" cy="3168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706400" y="4603680"/>
              <a:ext cx="247680" cy="3024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706400" y="4633920"/>
              <a:ext cx="247680" cy="3024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706400" y="4664160"/>
              <a:ext cx="247680" cy="3168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706400" y="4695840"/>
              <a:ext cx="247680" cy="3024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706400" y="4726080"/>
              <a:ext cx="247680" cy="3168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706400" y="4757760"/>
              <a:ext cx="247680" cy="30240"/>
            </a:xfrm>
            <a:prstGeom prst="rect">
              <a:avLst/>
            </a:prstGeom>
            <a:solidFill>
              <a:srgbClr val="929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706400" y="4788000"/>
              <a:ext cx="247680" cy="158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706400" y="4803840"/>
              <a:ext cx="247680" cy="302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706400" y="4834080"/>
              <a:ext cx="247680" cy="3168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706400" y="4865760"/>
              <a:ext cx="247680" cy="3024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706400" y="4896000"/>
              <a:ext cx="247680" cy="3168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706400" y="4927680"/>
              <a:ext cx="247680" cy="3024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706400" y="4957920"/>
              <a:ext cx="247680" cy="3168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706400" y="4989600"/>
              <a:ext cx="247680" cy="302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706400" y="5019840"/>
              <a:ext cx="247680" cy="158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706400" y="5035680"/>
              <a:ext cx="247680" cy="298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706400" y="5065560"/>
              <a:ext cx="247680" cy="3204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706400" y="5097600"/>
              <a:ext cx="247680" cy="2988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706400" y="5127480"/>
              <a:ext cx="247680" cy="32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706400" y="5159520"/>
              <a:ext cx="247680" cy="2988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706400" y="5189400"/>
              <a:ext cx="247680" cy="32040"/>
            </a:xfrm>
            <a:prstGeom prst="rect">
              <a:avLst/>
            </a:prstGeom>
            <a:solidFill>
              <a:srgbClr val="979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706400" y="5221440"/>
              <a:ext cx="247680" cy="2988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706400" y="5251320"/>
              <a:ext cx="247680" cy="158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706400" y="5267160"/>
              <a:ext cx="24768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706400" y="5297400"/>
              <a:ext cx="2476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706400" y="5329080"/>
              <a:ext cx="24768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706400" y="5359320"/>
              <a:ext cx="2476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2" name=""/>
          <p:cNvSpPr/>
          <p:nvPr/>
        </p:nvSpPr>
        <p:spPr>
          <a:xfrm>
            <a:off x="1706400" y="2611440"/>
            <a:ext cx="247680" cy="27795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2293920" y="2611440"/>
            <a:ext cx="246240" cy="2779560"/>
            <a:chOff x="2293920" y="2611440"/>
            <a:chExt cx="246240" cy="2779560"/>
          </a:xfrm>
        </p:grpSpPr>
        <p:sp>
          <p:nvSpPr>
            <p:cNvPr id="644" name=""/>
            <p:cNvSpPr/>
            <p:nvPr/>
          </p:nvSpPr>
          <p:spPr>
            <a:xfrm>
              <a:off x="2293920" y="2611440"/>
              <a:ext cx="24624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293920" y="2641680"/>
              <a:ext cx="24624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293920" y="2671920"/>
              <a:ext cx="246240" cy="3168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293920" y="2703600"/>
              <a:ext cx="246240" cy="1584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293920" y="2719440"/>
              <a:ext cx="246240" cy="3024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293920" y="2749680"/>
              <a:ext cx="246240" cy="3168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293920" y="2781360"/>
              <a:ext cx="246240" cy="302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93920" y="2811600"/>
              <a:ext cx="246240" cy="2988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293920" y="2841480"/>
              <a:ext cx="246240" cy="3204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293920" y="2873520"/>
              <a:ext cx="246240" cy="2988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293920" y="2903400"/>
              <a:ext cx="246240" cy="32040"/>
            </a:xfrm>
            <a:prstGeom prst="rect">
              <a:avLst/>
            </a:prstGeom>
            <a:solidFill>
              <a:srgbClr val="4b4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293920" y="2935440"/>
              <a:ext cx="246240" cy="1584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293920" y="2951280"/>
              <a:ext cx="246240" cy="29880"/>
            </a:xfrm>
            <a:prstGeom prst="rect">
              <a:avLst/>
            </a:prstGeom>
            <a:solidFill>
              <a:srgbClr val="4c4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293920" y="2981160"/>
              <a:ext cx="246240" cy="302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293920" y="3011400"/>
              <a:ext cx="246240" cy="3168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293920" y="3043080"/>
              <a:ext cx="246240" cy="3024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293920" y="3073320"/>
              <a:ext cx="246240" cy="31680"/>
            </a:xfrm>
            <a:prstGeom prst="rect">
              <a:avLst/>
            </a:prstGeom>
            <a:solidFill>
              <a:srgbClr val="5050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293920" y="3105000"/>
              <a:ext cx="246240" cy="30240"/>
            </a:xfrm>
            <a:prstGeom prst="rect">
              <a:avLst/>
            </a:prstGeom>
            <a:solidFill>
              <a:srgbClr val="505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293920" y="3135240"/>
              <a:ext cx="246240" cy="31680"/>
            </a:xfrm>
            <a:prstGeom prst="rect">
              <a:avLst/>
            </a:prstGeom>
            <a:solidFill>
              <a:srgbClr val="515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293920" y="3166920"/>
              <a:ext cx="246240" cy="1440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293920" y="3181320"/>
              <a:ext cx="246240" cy="31680"/>
            </a:xfrm>
            <a:prstGeom prst="rect">
              <a:avLst/>
            </a:prstGeom>
            <a:solidFill>
              <a:srgbClr val="535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293920" y="3213000"/>
              <a:ext cx="246240" cy="30240"/>
            </a:xfrm>
            <a:prstGeom prst="rect">
              <a:avLst/>
            </a:prstGeom>
            <a:solidFill>
              <a:srgbClr val="545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293920" y="3243240"/>
              <a:ext cx="246240" cy="31680"/>
            </a:xfrm>
            <a:prstGeom prst="rect">
              <a:avLst/>
            </a:prstGeom>
            <a:solidFill>
              <a:srgbClr val="555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293920" y="3274920"/>
              <a:ext cx="246240" cy="3024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293920" y="3305160"/>
              <a:ext cx="246240" cy="3168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293920" y="3336840"/>
              <a:ext cx="246240" cy="30240"/>
            </a:xfrm>
            <a:prstGeom prst="rect">
              <a:avLst/>
            </a:prstGeom>
            <a:solidFill>
              <a:srgbClr val="595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293920" y="3367080"/>
              <a:ext cx="246240" cy="316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293920" y="3398760"/>
              <a:ext cx="246240" cy="1440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293920" y="3413160"/>
              <a:ext cx="246240" cy="3168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293920" y="3444840"/>
              <a:ext cx="246240" cy="30240"/>
            </a:xfrm>
            <a:prstGeom prst="rect">
              <a:avLst/>
            </a:prstGeom>
            <a:solidFill>
              <a:srgbClr val="5d5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293920" y="3475080"/>
              <a:ext cx="246240" cy="3168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293920" y="3506760"/>
              <a:ext cx="246240" cy="30240"/>
            </a:xfrm>
            <a:prstGeom prst="rect">
              <a:avLst/>
            </a:prstGeom>
            <a:solidFill>
              <a:srgbClr val="606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293920" y="3537000"/>
              <a:ext cx="246240" cy="3168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293920" y="3568680"/>
              <a:ext cx="246240" cy="30240"/>
            </a:xfrm>
            <a:prstGeom prst="rect">
              <a:avLst/>
            </a:prstGeom>
            <a:solidFill>
              <a:srgbClr val="636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293920" y="3598920"/>
              <a:ext cx="246240" cy="31680"/>
            </a:xfrm>
            <a:prstGeom prst="rect">
              <a:avLst/>
            </a:prstGeom>
            <a:solidFill>
              <a:srgbClr val="646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293920" y="3630600"/>
              <a:ext cx="246240" cy="1440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293920" y="3645000"/>
              <a:ext cx="246240" cy="31680"/>
            </a:xfrm>
            <a:prstGeom prst="rect">
              <a:avLst/>
            </a:prstGeom>
            <a:solidFill>
              <a:srgbClr val="666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293920" y="3676680"/>
              <a:ext cx="246240" cy="3024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293920" y="3706920"/>
              <a:ext cx="246240" cy="3168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293920" y="3738600"/>
              <a:ext cx="246240" cy="302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293920" y="3768840"/>
              <a:ext cx="246240" cy="31680"/>
            </a:xfrm>
            <a:prstGeom prst="rect">
              <a:avLst/>
            </a:prstGeom>
            <a:solidFill>
              <a:srgbClr val="6d6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293920" y="3800520"/>
              <a:ext cx="246240" cy="30240"/>
            </a:xfrm>
            <a:prstGeom prst="rect">
              <a:avLst/>
            </a:prstGeom>
            <a:solidFill>
              <a:srgbClr val="6e6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293920" y="3830760"/>
              <a:ext cx="246240" cy="3168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293920" y="3862440"/>
              <a:ext cx="246240" cy="1440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293920" y="3876840"/>
              <a:ext cx="246240" cy="3168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293920" y="3908520"/>
              <a:ext cx="246240" cy="30240"/>
            </a:xfrm>
            <a:prstGeom prst="rect">
              <a:avLst/>
            </a:prstGeom>
            <a:solidFill>
              <a:srgbClr val="737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293920" y="3938760"/>
              <a:ext cx="246240" cy="3168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293920" y="3970440"/>
              <a:ext cx="246240" cy="3024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293920" y="4000680"/>
              <a:ext cx="246240" cy="31680"/>
            </a:xfrm>
            <a:prstGeom prst="rect">
              <a:avLst/>
            </a:prstGeom>
            <a:solidFill>
              <a:srgbClr val="787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93920" y="4032360"/>
              <a:ext cx="246240" cy="29880"/>
            </a:xfrm>
            <a:prstGeom prst="rect">
              <a:avLst/>
            </a:prstGeom>
            <a:solidFill>
              <a:srgbClr val="797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93920" y="4062240"/>
              <a:ext cx="246240" cy="3204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293920" y="4094280"/>
              <a:ext cx="246240" cy="140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293920" y="4108320"/>
              <a:ext cx="246240" cy="32040"/>
            </a:xfrm>
            <a:prstGeom prst="rect">
              <a:avLst/>
            </a:prstGeom>
            <a:solidFill>
              <a:srgbClr val="7c7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293920" y="4140360"/>
              <a:ext cx="246240" cy="2988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293920" y="4170240"/>
              <a:ext cx="246240" cy="3204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293920" y="4202280"/>
              <a:ext cx="246240" cy="2988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293920" y="4232160"/>
              <a:ext cx="246240" cy="3204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293920" y="4264200"/>
              <a:ext cx="246240" cy="29880"/>
            </a:xfrm>
            <a:prstGeom prst="rect">
              <a:avLst/>
            </a:prstGeom>
            <a:solidFill>
              <a:srgbClr val="838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93920" y="4294080"/>
              <a:ext cx="246240" cy="302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293920" y="4324320"/>
              <a:ext cx="246240" cy="1584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293920" y="4340160"/>
              <a:ext cx="246240" cy="31680"/>
            </a:xfrm>
            <a:prstGeom prst="rect">
              <a:avLst/>
            </a:prstGeom>
            <a:solidFill>
              <a:srgbClr val="868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93920" y="4371840"/>
              <a:ext cx="246240" cy="302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293920" y="4402080"/>
              <a:ext cx="246240" cy="3168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293920" y="4433760"/>
              <a:ext cx="246240" cy="3024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293920" y="4464000"/>
              <a:ext cx="246240" cy="3024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293920" y="4494240"/>
              <a:ext cx="246240" cy="31680"/>
            </a:xfrm>
            <a:prstGeom prst="rect">
              <a:avLst/>
            </a:prstGeom>
            <a:solidFill>
              <a:srgbClr val="8b8b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293920" y="4525920"/>
              <a:ext cx="246240" cy="30240"/>
            </a:xfrm>
            <a:prstGeom prst="rect">
              <a:avLst/>
            </a:prstGeom>
            <a:solidFill>
              <a:srgbClr val="8c8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293920" y="4556160"/>
              <a:ext cx="246240" cy="15840"/>
            </a:xfrm>
            <a:prstGeom prst="rect">
              <a:avLst/>
            </a:prstGeom>
            <a:solidFill>
              <a:srgbClr val="8c8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293920" y="4572000"/>
              <a:ext cx="246240" cy="3168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293920" y="4603680"/>
              <a:ext cx="246240" cy="3024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293920" y="4633920"/>
              <a:ext cx="246240" cy="3024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293920" y="4664160"/>
              <a:ext cx="246240" cy="3168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293920" y="4695840"/>
              <a:ext cx="246240" cy="3024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293920" y="4726080"/>
              <a:ext cx="246240" cy="3168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293920" y="4757760"/>
              <a:ext cx="246240" cy="30240"/>
            </a:xfrm>
            <a:prstGeom prst="rect">
              <a:avLst/>
            </a:prstGeom>
            <a:solidFill>
              <a:srgbClr val="929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293920" y="4788000"/>
              <a:ext cx="246240" cy="158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293920" y="4803840"/>
              <a:ext cx="246240" cy="302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293920" y="4834080"/>
              <a:ext cx="246240" cy="3168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293920" y="4865760"/>
              <a:ext cx="246240" cy="3024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293920" y="4896000"/>
              <a:ext cx="246240" cy="3168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293920" y="4927680"/>
              <a:ext cx="246240" cy="3024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293920" y="4957920"/>
              <a:ext cx="246240" cy="3168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293920" y="4989600"/>
              <a:ext cx="246240" cy="302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293920" y="5019840"/>
              <a:ext cx="246240" cy="158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293920" y="5035680"/>
              <a:ext cx="246240" cy="298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293920" y="5065560"/>
              <a:ext cx="246240" cy="3204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293920" y="5097600"/>
              <a:ext cx="246240" cy="2988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293920" y="5127480"/>
              <a:ext cx="246240" cy="32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293920" y="5159520"/>
              <a:ext cx="246240" cy="2988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293920" y="5189400"/>
              <a:ext cx="246240" cy="32040"/>
            </a:xfrm>
            <a:prstGeom prst="rect">
              <a:avLst/>
            </a:prstGeom>
            <a:solidFill>
              <a:srgbClr val="979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293920" y="5221440"/>
              <a:ext cx="246240" cy="2988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293920" y="5251320"/>
              <a:ext cx="246240" cy="158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293920" y="5267160"/>
              <a:ext cx="24624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293920" y="5297400"/>
              <a:ext cx="24624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293920" y="5329080"/>
              <a:ext cx="24624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93920" y="5359320"/>
              <a:ext cx="24624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2293920" y="2611440"/>
            <a:ext cx="246240" cy="27795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1" name=""/>
          <p:cNvGrpSpPr/>
          <p:nvPr/>
        </p:nvGrpSpPr>
        <p:grpSpPr>
          <a:xfrm>
            <a:off x="2879640" y="2611440"/>
            <a:ext cx="247680" cy="2779560"/>
            <a:chOff x="2879640" y="2611440"/>
            <a:chExt cx="247680" cy="2779560"/>
          </a:xfrm>
        </p:grpSpPr>
        <p:sp>
          <p:nvSpPr>
            <p:cNvPr id="742" name=""/>
            <p:cNvSpPr/>
            <p:nvPr/>
          </p:nvSpPr>
          <p:spPr>
            <a:xfrm>
              <a:off x="2879640" y="2611440"/>
              <a:ext cx="24768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879640" y="2641680"/>
              <a:ext cx="24768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879640" y="2671920"/>
              <a:ext cx="247680" cy="3168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879640" y="2703600"/>
              <a:ext cx="247680" cy="1584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879640" y="2719440"/>
              <a:ext cx="247680" cy="3024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879640" y="2749680"/>
              <a:ext cx="247680" cy="3168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879640" y="2781360"/>
              <a:ext cx="247680" cy="302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79640" y="2811600"/>
              <a:ext cx="247680" cy="2988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879640" y="2841480"/>
              <a:ext cx="247680" cy="3204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879640" y="2873520"/>
              <a:ext cx="247680" cy="2988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879640" y="2903400"/>
              <a:ext cx="247680" cy="32040"/>
            </a:xfrm>
            <a:prstGeom prst="rect">
              <a:avLst/>
            </a:prstGeom>
            <a:solidFill>
              <a:srgbClr val="4b4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79640" y="2935440"/>
              <a:ext cx="247680" cy="1584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79640" y="2951280"/>
              <a:ext cx="247680" cy="29880"/>
            </a:xfrm>
            <a:prstGeom prst="rect">
              <a:avLst/>
            </a:prstGeom>
            <a:solidFill>
              <a:srgbClr val="4c4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879640" y="2981160"/>
              <a:ext cx="247680" cy="302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879640" y="3011400"/>
              <a:ext cx="247680" cy="3168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879640" y="3043080"/>
              <a:ext cx="247680" cy="3024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879640" y="3073320"/>
              <a:ext cx="247680" cy="31680"/>
            </a:xfrm>
            <a:prstGeom prst="rect">
              <a:avLst/>
            </a:prstGeom>
            <a:solidFill>
              <a:srgbClr val="5050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879640" y="3105000"/>
              <a:ext cx="247680" cy="30240"/>
            </a:xfrm>
            <a:prstGeom prst="rect">
              <a:avLst/>
            </a:prstGeom>
            <a:solidFill>
              <a:srgbClr val="505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879640" y="3135240"/>
              <a:ext cx="247680" cy="31680"/>
            </a:xfrm>
            <a:prstGeom prst="rect">
              <a:avLst/>
            </a:prstGeom>
            <a:solidFill>
              <a:srgbClr val="515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879640" y="3166920"/>
              <a:ext cx="247680" cy="1440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879640" y="3181320"/>
              <a:ext cx="247680" cy="31680"/>
            </a:xfrm>
            <a:prstGeom prst="rect">
              <a:avLst/>
            </a:prstGeom>
            <a:solidFill>
              <a:srgbClr val="535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79640" y="3213000"/>
              <a:ext cx="247680" cy="30240"/>
            </a:xfrm>
            <a:prstGeom prst="rect">
              <a:avLst/>
            </a:prstGeom>
            <a:solidFill>
              <a:srgbClr val="545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879640" y="3243240"/>
              <a:ext cx="247680" cy="31680"/>
            </a:xfrm>
            <a:prstGeom prst="rect">
              <a:avLst/>
            </a:prstGeom>
            <a:solidFill>
              <a:srgbClr val="555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879640" y="3274920"/>
              <a:ext cx="247680" cy="3024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879640" y="3305160"/>
              <a:ext cx="247680" cy="3168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879640" y="3336840"/>
              <a:ext cx="247680" cy="30240"/>
            </a:xfrm>
            <a:prstGeom prst="rect">
              <a:avLst/>
            </a:prstGeom>
            <a:solidFill>
              <a:srgbClr val="595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879640" y="3367080"/>
              <a:ext cx="247680" cy="316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879640" y="3398760"/>
              <a:ext cx="247680" cy="1440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879640" y="3413160"/>
              <a:ext cx="247680" cy="3168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79640" y="3444840"/>
              <a:ext cx="247680" cy="30240"/>
            </a:xfrm>
            <a:prstGeom prst="rect">
              <a:avLst/>
            </a:prstGeom>
            <a:solidFill>
              <a:srgbClr val="5d5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879640" y="3475080"/>
              <a:ext cx="247680" cy="3168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879640" y="3506760"/>
              <a:ext cx="247680" cy="30240"/>
            </a:xfrm>
            <a:prstGeom prst="rect">
              <a:avLst/>
            </a:prstGeom>
            <a:solidFill>
              <a:srgbClr val="606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879640" y="3537000"/>
              <a:ext cx="247680" cy="3168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879640" y="3568680"/>
              <a:ext cx="247680" cy="30240"/>
            </a:xfrm>
            <a:prstGeom prst="rect">
              <a:avLst/>
            </a:prstGeom>
            <a:solidFill>
              <a:srgbClr val="636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879640" y="3598920"/>
              <a:ext cx="247680" cy="31680"/>
            </a:xfrm>
            <a:prstGeom prst="rect">
              <a:avLst/>
            </a:prstGeom>
            <a:solidFill>
              <a:srgbClr val="646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879640" y="3630600"/>
              <a:ext cx="247680" cy="1440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879640" y="3645000"/>
              <a:ext cx="247680" cy="31680"/>
            </a:xfrm>
            <a:prstGeom prst="rect">
              <a:avLst/>
            </a:prstGeom>
            <a:solidFill>
              <a:srgbClr val="666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879640" y="3676680"/>
              <a:ext cx="247680" cy="3024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879640" y="3706920"/>
              <a:ext cx="247680" cy="3168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879640" y="3738600"/>
              <a:ext cx="247680" cy="302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879640" y="3768840"/>
              <a:ext cx="247680" cy="31680"/>
            </a:xfrm>
            <a:prstGeom prst="rect">
              <a:avLst/>
            </a:prstGeom>
            <a:solidFill>
              <a:srgbClr val="6d6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879640" y="3800520"/>
              <a:ext cx="247680" cy="30240"/>
            </a:xfrm>
            <a:prstGeom prst="rect">
              <a:avLst/>
            </a:prstGeom>
            <a:solidFill>
              <a:srgbClr val="6e6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879640" y="3830760"/>
              <a:ext cx="247680" cy="3168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879640" y="3862440"/>
              <a:ext cx="247680" cy="1440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879640" y="3876840"/>
              <a:ext cx="247680" cy="3168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879640" y="3908520"/>
              <a:ext cx="247680" cy="30240"/>
            </a:xfrm>
            <a:prstGeom prst="rect">
              <a:avLst/>
            </a:prstGeom>
            <a:solidFill>
              <a:srgbClr val="737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879640" y="3938760"/>
              <a:ext cx="247680" cy="3168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879640" y="3970440"/>
              <a:ext cx="247680" cy="3024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79640" y="4000680"/>
              <a:ext cx="247680" cy="31680"/>
            </a:xfrm>
            <a:prstGeom prst="rect">
              <a:avLst/>
            </a:prstGeom>
            <a:solidFill>
              <a:srgbClr val="787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879640" y="4032360"/>
              <a:ext cx="247680" cy="29880"/>
            </a:xfrm>
            <a:prstGeom prst="rect">
              <a:avLst/>
            </a:prstGeom>
            <a:solidFill>
              <a:srgbClr val="797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879640" y="4062240"/>
              <a:ext cx="247680" cy="3204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879640" y="4094280"/>
              <a:ext cx="247680" cy="140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879640" y="4108320"/>
              <a:ext cx="247680" cy="32040"/>
            </a:xfrm>
            <a:prstGeom prst="rect">
              <a:avLst/>
            </a:prstGeom>
            <a:solidFill>
              <a:srgbClr val="7c7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879640" y="4140360"/>
              <a:ext cx="247680" cy="2988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879640" y="4170240"/>
              <a:ext cx="247680" cy="3204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879640" y="4202280"/>
              <a:ext cx="247680" cy="2988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79640" y="4232160"/>
              <a:ext cx="247680" cy="3204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879640" y="4264200"/>
              <a:ext cx="247680" cy="29880"/>
            </a:xfrm>
            <a:prstGeom prst="rect">
              <a:avLst/>
            </a:prstGeom>
            <a:solidFill>
              <a:srgbClr val="838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879640" y="4294080"/>
              <a:ext cx="247680" cy="302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879640" y="4324320"/>
              <a:ext cx="247680" cy="1584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879640" y="4340160"/>
              <a:ext cx="247680" cy="31680"/>
            </a:xfrm>
            <a:prstGeom prst="rect">
              <a:avLst/>
            </a:prstGeom>
            <a:solidFill>
              <a:srgbClr val="868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879640" y="4371840"/>
              <a:ext cx="247680" cy="302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879640" y="4402080"/>
              <a:ext cx="247680" cy="3168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879640" y="4433760"/>
              <a:ext cx="247680" cy="3024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879640" y="4464000"/>
              <a:ext cx="247680" cy="3024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879640" y="4494240"/>
              <a:ext cx="247680" cy="31680"/>
            </a:xfrm>
            <a:prstGeom prst="rect">
              <a:avLst/>
            </a:prstGeom>
            <a:solidFill>
              <a:srgbClr val="8b8b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879640" y="4525920"/>
              <a:ext cx="247680" cy="30240"/>
            </a:xfrm>
            <a:prstGeom prst="rect">
              <a:avLst/>
            </a:prstGeom>
            <a:solidFill>
              <a:srgbClr val="8c8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879640" y="4556160"/>
              <a:ext cx="247680" cy="15840"/>
            </a:xfrm>
            <a:prstGeom prst="rect">
              <a:avLst/>
            </a:prstGeom>
            <a:solidFill>
              <a:srgbClr val="8c8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879640" y="4572000"/>
              <a:ext cx="247680" cy="3168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879640" y="4603680"/>
              <a:ext cx="247680" cy="3024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879640" y="4633920"/>
              <a:ext cx="247680" cy="3024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879640" y="4664160"/>
              <a:ext cx="247680" cy="3168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879640" y="4695840"/>
              <a:ext cx="247680" cy="3024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879640" y="4726080"/>
              <a:ext cx="247680" cy="3168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879640" y="4757760"/>
              <a:ext cx="247680" cy="30240"/>
            </a:xfrm>
            <a:prstGeom prst="rect">
              <a:avLst/>
            </a:prstGeom>
            <a:solidFill>
              <a:srgbClr val="929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879640" y="4788000"/>
              <a:ext cx="247680" cy="158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879640" y="4803840"/>
              <a:ext cx="247680" cy="302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879640" y="4834080"/>
              <a:ext cx="247680" cy="3168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879640" y="4865760"/>
              <a:ext cx="247680" cy="3024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879640" y="4896000"/>
              <a:ext cx="247680" cy="3168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879640" y="4927680"/>
              <a:ext cx="247680" cy="3024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879640" y="4957920"/>
              <a:ext cx="247680" cy="3168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879640" y="4989600"/>
              <a:ext cx="247680" cy="302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879640" y="5019840"/>
              <a:ext cx="247680" cy="158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879640" y="5035680"/>
              <a:ext cx="247680" cy="298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879640" y="5065560"/>
              <a:ext cx="247680" cy="3204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879640" y="5097600"/>
              <a:ext cx="247680" cy="2988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879640" y="5127480"/>
              <a:ext cx="247680" cy="32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879640" y="5159520"/>
              <a:ext cx="247680" cy="2988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879640" y="5189400"/>
              <a:ext cx="247680" cy="32040"/>
            </a:xfrm>
            <a:prstGeom prst="rect">
              <a:avLst/>
            </a:prstGeom>
            <a:solidFill>
              <a:srgbClr val="979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879640" y="5221440"/>
              <a:ext cx="247680" cy="2988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879640" y="5251320"/>
              <a:ext cx="247680" cy="158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879640" y="5267160"/>
              <a:ext cx="24768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879640" y="5297400"/>
              <a:ext cx="2476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879640" y="5329080"/>
              <a:ext cx="24768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879640" y="5359320"/>
              <a:ext cx="2476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8" name=""/>
          <p:cNvSpPr/>
          <p:nvPr/>
        </p:nvSpPr>
        <p:spPr>
          <a:xfrm>
            <a:off x="2879640" y="2611440"/>
            <a:ext cx="247680" cy="27795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9" name=""/>
          <p:cNvGrpSpPr/>
          <p:nvPr/>
        </p:nvGrpSpPr>
        <p:grpSpPr>
          <a:xfrm>
            <a:off x="3467160" y="2611440"/>
            <a:ext cx="245880" cy="2779560"/>
            <a:chOff x="3467160" y="2611440"/>
            <a:chExt cx="245880" cy="2779560"/>
          </a:xfrm>
        </p:grpSpPr>
        <p:sp>
          <p:nvSpPr>
            <p:cNvPr id="840" name=""/>
            <p:cNvSpPr/>
            <p:nvPr/>
          </p:nvSpPr>
          <p:spPr>
            <a:xfrm>
              <a:off x="3467160" y="2611440"/>
              <a:ext cx="24588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467160" y="2641680"/>
              <a:ext cx="24588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467160" y="2671920"/>
              <a:ext cx="245880" cy="3168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467160" y="2703600"/>
              <a:ext cx="245880" cy="1584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467160" y="2719440"/>
              <a:ext cx="245880" cy="3024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467160" y="2749680"/>
              <a:ext cx="245880" cy="3168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467160" y="2781360"/>
              <a:ext cx="245880" cy="302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467160" y="2811600"/>
              <a:ext cx="245880" cy="2988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467160" y="2841480"/>
              <a:ext cx="245880" cy="3204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467160" y="2873520"/>
              <a:ext cx="245880" cy="2988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467160" y="2903400"/>
              <a:ext cx="245880" cy="32040"/>
            </a:xfrm>
            <a:prstGeom prst="rect">
              <a:avLst/>
            </a:prstGeom>
            <a:solidFill>
              <a:srgbClr val="4b4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467160" y="2935440"/>
              <a:ext cx="245880" cy="1584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467160" y="2951280"/>
              <a:ext cx="245880" cy="29880"/>
            </a:xfrm>
            <a:prstGeom prst="rect">
              <a:avLst/>
            </a:prstGeom>
            <a:solidFill>
              <a:srgbClr val="4c4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467160" y="2981160"/>
              <a:ext cx="245880" cy="302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467160" y="3011400"/>
              <a:ext cx="245880" cy="3168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467160" y="3043080"/>
              <a:ext cx="245880" cy="3024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467160" y="3073320"/>
              <a:ext cx="245880" cy="31680"/>
            </a:xfrm>
            <a:prstGeom prst="rect">
              <a:avLst/>
            </a:prstGeom>
            <a:solidFill>
              <a:srgbClr val="5050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467160" y="3105000"/>
              <a:ext cx="245880" cy="30240"/>
            </a:xfrm>
            <a:prstGeom prst="rect">
              <a:avLst/>
            </a:prstGeom>
            <a:solidFill>
              <a:srgbClr val="505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467160" y="3135240"/>
              <a:ext cx="245880" cy="31680"/>
            </a:xfrm>
            <a:prstGeom prst="rect">
              <a:avLst/>
            </a:prstGeom>
            <a:solidFill>
              <a:srgbClr val="515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467160" y="3166920"/>
              <a:ext cx="245880" cy="1440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467160" y="3181320"/>
              <a:ext cx="245880" cy="31680"/>
            </a:xfrm>
            <a:prstGeom prst="rect">
              <a:avLst/>
            </a:prstGeom>
            <a:solidFill>
              <a:srgbClr val="535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467160" y="3213000"/>
              <a:ext cx="245880" cy="30240"/>
            </a:xfrm>
            <a:prstGeom prst="rect">
              <a:avLst/>
            </a:prstGeom>
            <a:solidFill>
              <a:srgbClr val="545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467160" y="3243240"/>
              <a:ext cx="245880" cy="31680"/>
            </a:xfrm>
            <a:prstGeom prst="rect">
              <a:avLst/>
            </a:prstGeom>
            <a:solidFill>
              <a:srgbClr val="555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467160" y="3274920"/>
              <a:ext cx="245880" cy="3024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467160" y="3305160"/>
              <a:ext cx="245880" cy="3168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467160" y="3336840"/>
              <a:ext cx="245880" cy="30240"/>
            </a:xfrm>
            <a:prstGeom prst="rect">
              <a:avLst/>
            </a:prstGeom>
            <a:solidFill>
              <a:srgbClr val="595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467160" y="3367080"/>
              <a:ext cx="245880" cy="316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467160" y="3398760"/>
              <a:ext cx="245880" cy="1440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467160" y="3413160"/>
              <a:ext cx="245880" cy="3168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467160" y="3444840"/>
              <a:ext cx="245880" cy="30240"/>
            </a:xfrm>
            <a:prstGeom prst="rect">
              <a:avLst/>
            </a:prstGeom>
            <a:solidFill>
              <a:srgbClr val="5d5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467160" y="3475080"/>
              <a:ext cx="245880" cy="3168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467160" y="3506760"/>
              <a:ext cx="245880" cy="30240"/>
            </a:xfrm>
            <a:prstGeom prst="rect">
              <a:avLst/>
            </a:prstGeom>
            <a:solidFill>
              <a:srgbClr val="606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467160" y="3537000"/>
              <a:ext cx="245880" cy="3168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467160" y="3568680"/>
              <a:ext cx="245880" cy="30240"/>
            </a:xfrm>
            <a:prstGeom prst="rect">
              <a:avLst/>
            </a:prstGeom>
            <a:solidFill>
              <a:srgbClr val="636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467160" y="3598920"/>
              <a:ext cx="245880" cy="31680"/>
            </a:xfrm>
            <a:prstGeom prst="rect">
              <a:avLst/>
            </a:prstGeom>
            <a:solidFill>
              <a:srgbClr val="646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467160" y="3630600"/>
              <a:ext cx="245880" cy="1440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467160" y="3645000"/>
              <a:ext cx="245880" cy="31680"/>
            </a:xfrm>
            <a:prstGeom prst="rect">
              <a:avLst/>
            </a:prstGeom>
            <a:solidFill>
              <a:srgbClr val="666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467160" y="3676680"/>
              <a:ext cx="245880" cy="3024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467160" y="3706920"/>
              <a:ext cx="245880" cy="3168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467160" y="3738600"/>
              <a:ext cx="245880" cy="302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467160" y="3768840"/>
              <a:ext cx="245880" cy="31680"/>
            </a:xfrm>
            <a:prstGeom prst="rect">
              <a:avLst/>
            </a:prstGeom>
            <a:solidFill>
              <a:srgbClr val="6d6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467160" y="3800520"/>
              <a:ext cx="245880" cy="30240"/>
            </a:xfrm>
            <a:prstGeom prst="rect">
              <a:avLst/>
            </a:prstGeom>
            <a:solidFill>
              <a:srgbClr val="6e6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467160" y="3830760"/>
              <a:ext cx="245880" cy="3168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467160" y="3862440"/>
              <a:ext cx="245880" cy="1440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467160" y="3876840"/>
              <a:ext cx="245880" cy="3168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467160" y="3908520"/>
              <a:ext cx="245880" cy="30240"/>
            </a:xfrm>
            <a:prstGeom prst="rect">
              <a:avLst/>
            </a:prstGeom>
            <a:solidFill>
              <a:srgbClr val="737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467160" y="3938760"/>
              <a:ext cx="245880" cy="3168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467160" y="3970440"/>
              <a:ext cx="245880" cy="3024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467160" y="4000680"/>
              <a:ext cx="245880" cy="31680"/>
            </a:xfrm>
            <a:prstGeom prst="rect">
              <a:avLst/>
            </a:prstGeom>
            <a:solidFill>
              <a:srgbClr val="787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467160" y="4032360"/>
              <a:ext cx="245880" cy="29880"/>
            </a:xfrm>
            <a:prstGeom prst="rect">
              <a:avLst/>
            </a:prstGeom>
            <a:solidFill>
              <a:srgbClr val="797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467160" y="4062240"/>
              <a:ext cx="245880" cy="3204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467160" y="4094280"/>
              <a:ext cx="245880" cy="140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467160" y="4108320"/>
              <a:ext cx="245880" cy="32040"/>
            </a:xfrm>
            <a:prstGeom prst="rect">
              <a:avLst/>
            </a:prstGeom>
            <a:solidFill>
              <a:srgbClr val="7c7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467160" y="4140360"/>
              <a:ext cx="245880" cy="2988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467160" y="4170240"/>
              <a:ext cx="245880" cy="3204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467160" y="4202280"/>
              <a:ext cx="245880" cy="2988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467160" y="4232160"/>
              <a:ext cx="245880" cy="3204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467160" y="4264200"/>
              <a:ext cx="245880" cy="29880"/>
            </a:xfrm>
            <a:prstGeom prst="rect">
              <a:avLst/>
            </a:prstGeom>
            <a:solidFill>
              <a:srgbClr val="838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467160" y="4294080"/>
              <a:ext cx="245880" cy="302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467160" y="4324320"/>
              <a:ext cx="245880" cy="1584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467160" y="4340160"/>
              <a:ext cx="245880" cy="31680"/>
            </a:xfrm>
            <a:prstGeom prst="rect">
              <a:avLst/>
            </a:prstGeom>
            <a:solidFill>
              <a:srgbClr val="868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467160" y="4371840"/>
              <a:ext cx="245880" cy="302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467160" y="4402080"/>
              <a:ext cx="245880" cy="3168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467160" y="4433760"/>
              <a:ext cx="245880" cy="3024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467160" y="4464000"/>
              <a:ext cx="245880" cy="3024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467160" y="4494240"/>
              <a:ext cx="245880" cy="31680"/>
            </a:xfrm>
            <a:prstGeom prst="rect">
              <a:avLst/>
            </a:prstGeom>
            <a:solidFill>
              <a:srgbClr val="8b8b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467160" y="4525920"/>
              <a:ext cx="245880" cy="30240"/>
            </a:xfrm>
            <a:prstGeom prst="rect">
              <a:avLst/>
            </a:prstGeom>
            <a:solidFill>
              <a:srgbClr val="8c8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467160" y="4556160"/>
              <a:ext cx="245880" cy="15840"/>
            </a:xfrm>
            <a:prstGeom prst="rect">
              <a:avLst/>
            </a:prstGeom>
            <a:solidFill>
              <a:srgbClr val="8c8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3467160" y="4572000"/>
              <a:ext cx="245880" cy="3168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67160" y="4603680"/>
              <a:ext cx="245880" cy="3024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467160" y="4633920"/>
              <a:ext cx="245880" cy="3024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467160" y="4664160"/>
              <a:ext cx="245880" cy="3168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467160" y="4695840"/>
              <a:ext cx="245880" cy="3024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467160" y="4726080"/>
              <a:ext cx="245880" cy="3168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467160" y="4757760"/>
              <a:ext cx="245880" cy="30240"/>
            </a:xfrm>
            <a:prstGeom prst="rect">
              <a:avLst/>
            </a:prstGeom>
            <a:solidFill>
              <a:srgbClr val="929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467160" y="4788000"/>
              <a:ext cx="245880" cy="158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467160" y="4803840"/>
              <a:ext cx="245880" cy="302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467160" y="4834080"/>
              <a:ext cx="245880" cy="3168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467160" y="4865760"/>
              <a:ext cx="245880" cy="3024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467160" y="4896000"/>
              <a:ext cx="245880" cy="3168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467160" y="4927680"/>
              <a:ext cx="245880" cy="3024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467160" y="4957920"/>
              <a:ext cx="245880" cy="3168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467160" y="4989600"/>
              <a:ext cx="245880" cy="302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467160" y="5019840"/>
              <a:ext cx="245880" cy="158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467160" y="5035680"/>
              <a:ext cx="245880" cy="298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467160" y="5065560"/>
              <a:ext cx="245880" cy="3204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467160" y="5097600"/>
              <a:ext cx="245880" cy="2988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467160" y="5127480"/>
              <a:ext cx="245880" cy="32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467160" y="5159520"/>
              <a:ext cx="245880" cy="2988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467160" y="5189400"/>
              <a:ext cx="245880" cy="32040"/>
            </a:xfrm>
            <a:prstGeom prst="rect">
              <a:avLst/>
            </a:prstGeom>
            <a:solidFill>
              <a:srgbClr val="979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467160" y="5221440"/>
              <a:ext cx="245880" cy="2988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467160" y="5251320"/>
              <a:ext cx="245880" cy="158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467160" y="5267160"/>
              <a:ext cx="24588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467160" y="5297400"/>
              <a:ext cx="2458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467160" y="5329080"/>
              <a:ext cx="24588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467160" y="5359320"/>
              <a:ext cx="2458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6" name=""/>
          <p:cNvSpPr/>
          <p:nvPr/>
        </p:nvSpPr>
        <p:spPr>
          <a:xfrm>
            <a:off x="3467160" y="2611440"/>
            <a:ext cx="245880" cy="27795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7" name=""/>
          <p:cNvGrpSpPr/>
          <p:nvPr/>
        </p:nvGrpSpPr>
        <p:grpSpPr>
          <a:xfrm>
            <a:off x="4052880" y="2919240"/>
            <a:ext cx="247680" cy="2471760"/>
            <a:chOff x="4052880" y="2919240"/>
            <a:chExt cx="247680" cy="2471760"/>
          </a:xfrm>
        </p:grpSpPr>
        <p:sp>
          <p:nvSpPr>
            <p:cNvPr id="938" name=""/>
            <p:cNvSpPr/>
            <p:nvPr/>
          </p:nvSpPr>
          <p:spPr>
            <a:xfrm>
              <a:off x="4052880" y="2919240"/>
              <a:ext cx="247680" cy="320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052880" y="2951280"/>
              <a:ext cx="247680" cy="140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052880" y="2965320"/>
              <a:ext cx="247680" cy="3204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052880" y="2997360"/>
              <a:ext cx="247680" cy="2988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052880" y="3027240"/>
              <a:ext cx="247680" cy="1584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052880" y="3043080"/>
              <a:ext cx="247680" cy="3024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052880" y="3073320"/>
              <a:ext cx="247680" cy="3168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052880" y="3105000"/>
              <a:ext cx="247680" cy="1620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052880" y="3121200"/>
              <a:ext cx="247680" cy="2988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052880" y="3151080"/>
              <a:ext cx="247680" cy="3024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052880" y="3181320"/>
              <a:ext cx="247680" cy="15840"/>
            </a:xfrm>
            <a:prstGeom prst="rect">
              <a:avLst/>
            </a:prstGeom>
            <a:solidFill>
              <a:srgbClr val="4b4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052880" y="3197160"/>
              <a:ext cx="247680" cy="3168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052880" y="3228840"/>
              <a:ext cx="247680" cy="302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052880" y="3259080"/>
              <a:ext cx="247680" cy="158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4052880" y="3274920"/>
              <a:ext cx="247680" cy="3024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4052880" y="3305160"/>
              <a:ext cx="247680" cy="3168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4052880" y="3336840"/>
              <a:ext cx="247680" cy="15840"/>
            </a:xfrm>
            <a:prstGeom prst="rect">
              <a:avLst/>
            </a:prstGeom>
            <a:solidFill>
              <a:srgbClr val="4f4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4052880" y="3352680"/>
              <a:ext cx="247680" cy="30240"/>
            </a:xfrm>
            <a:prstGeom prst="rect">
              <a:avLst/>
            </a:prstGeom>
            <a:solidFill>
              <a:srgbClr val="505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4052880" y="3382920"/>
              <a:ext cx="247680" cy="30240"/>
            </a:xfrm>
            <a:prstGeom prst="rect">
              <a:avLst/>
            </a:prstGeom>
            <a:solidFill>
              <a:srgbClr val="515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4052880" y="3413160"/>
              <a:ext cx="247680" cy="1584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4052880" y="3429000"/>
              <a:ext cx="247680" cy="31680"/>
            </a:xfrm>
            <a:prstGeom prst="rect">
              <a:avLst/>
            </a:prstGeom>
            <a:solidFill>
              <a:srgbClr val="535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052880" y="3460680"/>
              <a:ext cx="247680" cy="30240"/>
            </a:xfrm>
            <a:prstGeom prst="rect">
              <a:avLst/>
            </a:prstGeom>
            <a:solidFill>
              <a:srgbClr val="5454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052880" y="3490920"/>
              <a:ext cx="247680" cy="15840"/>
            </a:xfrm>
            <a:prstGeom prst="rect">
              <a:avLst/>
            </a:prstGeom>
            <a:solidFill>
              <a:srgbClr val="555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4052880" y="3506760"/>
              <a:ext cx="247680" cy="3024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052880" y="3537000"/>
              <a:ext cx="247680" cy="3168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052880" y="3568680"/>
              <a:ext cx="247680" cy="14400"/>
            </a:xfrm>
            <a:prstGeom prst="rect">
              <a:avLst/>
            </a:prstGeom>
            <a:solidFill>
              <a:srgbClr val="585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052880" y="3583080"/>
              <a:ext cx="247680" cy="316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052880" y="3614760"/>
              <a:ext cx="247680" cy="3024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052880" y="3645000"/>
              <a:ext cx="247680" cy="1584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052880" y="3660840"/>
              <a:ext cx="247680" cy="31680"/>
            </a:xfrm>
            <a:prstGeom prst="rect">
              <a:avLst/>
            </a:prstGeom>
            <a:solidFill>
              <a:srgbClr val="5d5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052880" y="3692520"/>
              <a:ext cx="247680" cy="3024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052880" y="3722760"/>
              <a:ext cx="247680" cy="15840"/>
            </a:xfrm>
            <a:prstGeom prst="rect">
              <a:avLst/>
            </a:prstGeom>
            <a:solidFill>
              <a:srgbClr val="606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052880" y="3738600"/>
              <a:ext cx="247680" cy="3024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4052880" y="3768840"/>
              <a:ext cx="247680" cy="31680"/>
            </a:xfrm>
            <a:prstGeom prst="rect">
              <a:avLst/>
            </a:prstGeom>
            <a:solidFill>
              <a:srgbClr val="636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052880" y="3800520"/>
              <a:ext cx="247680" cy="14400"/>
            </a:xfrm>
            <a:prstGeom prst="rect">
              <a:avLst/>
            </a:prstGeom>
            <a:solidFill>
              <a:srgbClr val="6464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052880" y="3814920"/>
              <a:ext cx="247680" cy="3168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052880" y="3846600"/>
              <a:ext cx="247680" cy="30240"/>
            </a:xfrm>
            <a:prstGeom prst="rect">
              <a:avLst/>
            </a:prstGeom>
            <a:solidFill>
              <a:srgbClr val="676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4052880" y="3876840"/>
              <a:ext cx="247680" cy="1584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052880" y="3892680"/>
              <a:ext cx="247680" cy="2988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052880" y="3922560"/>
              <a:ext cx="247680" cy="320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052880" y="3954600"/>
              <a:ext cx="247680" cy="15840"/>
            </a:xfrm>
            <a:prstGeom prst="rect">
              <a:avLst/>
            </a:prstGeom>
            <a:solidFill>
              <a:srgbClr val="6c6c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4052880" y="3970440"/>
              <a:ext cx="247680" cy="30240"/>
            </a:xfrm>
            <a:prstGeom prst="rect">
              <a:avLst/>
            </a:prstGeom>
            <a:solidFill>
              <a:srgbClr val="6e6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052880" y="4000680"/>
              <a:ext cx="247680" cy="3168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4052880" y="4032360"/>
              <a:ext cx="247680" cy="1404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052880" y="4046400"/>
              <a:ext cx="247680" cy="3204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052880" y="4078440"/>
              <a:ext cx="247680" cy="29880"/>
            </a:xfrm>
            <a:prstGeom prst="rect">
              <a:avLst/>
            </a:prstGeom>
            <a:solidFill>
              <a:srgbClr val="737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052880" y="4108320"/>
              <a:ext cx="247680" cy="1584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4052880" y="4124160"/>
              <a:ext cx="247680" cy="3024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052880" y="4154400"/>
              <a:ext cx="247680" cy="31680"/>
            </a:xfrm>
            <a:prstGeom prst="rect">
              <a:avLst/>
            </a:prstGeom>
            <a:solidFill>
              <a:srgbClr val="787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052880" y="4186080"/>
              <a:ext cx="247680" cy="16200"/>
            </a:xfrm>
            <a:prstGeom prst="rect">
              <a:avLst/>
            </a:prstGeom>
            <a:solidFill>
              <a:srgbClr val="797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4052880" y="4202280"/>
              <a:ext cx="247680" cy="2988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4052880" y="4232160"/>
              <a:ext cx="247680" cy="320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4052880" y="4264200"/>
              <a:ext cx="247680" cy="14040"/>
            </a:xfrm>
            <a:prstGeom prst="rect">
              <a:avLst/>
            </a:prstGeom>
            <a:solidFill>
              <a:srgbClr val="7c7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052880" y="4278240"/>
              <a:ext cx="247680" cy="3168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052880" y="4309920"/>
              <a:ext cx="247680" cy="3024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052880" y="4340160"/>
              <a:ext cx="247680" cy="1584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052880" y="4356000"/>
              <a:ext cx="247680" cy="3024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052880" y="4386240"/>
              <a:ext cx="247680" cy="31680"/>
            </a:xfrm>
            <a:prstGeom prst="rect">
              <a:avLst/>
            </a:prstGeom>
            <a:solidFill>
              <a:srgbClr val="838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052880" y="4417920"/>
              <a:ext cx="247680" cy="158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052880" y="4433760"/>
              <a:ext cx="247680" cy="3024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052880" y="4464000"/>
              <a:ext cx="247680" cy="30240"/>
            </a:xfrm>
            <a:prstGeom prst="rect">
              <a:avLst/>
            </a:prstGeom>
            <a:solidFill>
              <a:srgbClr val="868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052880" y="4494240"/>
              <a:ext cx="247680" cy="158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052880" y="4510080"/>
              <a:ext cx="247680" cy="3168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052880" y="4541760"/>
              <a:ext cx="247680" cy="3024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052880" y="4572000"/>
              <a:ext cx="247680" cy="1584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052880" y="4587840"/>
              <a:ext cx="247680" cy="30240"/>
            </a:xfrm>
            <a:prstGeom prst="rect">
              <a:avLst/>
            </a:prstGeom>
            <a:solidFill>
              <a:srgbClr val="8b8b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052880" y="4618080"/>
              <a:ext cx="247680" cy="31680"/>
            </a:xfrm>
            <a:prstGeom prst="rect">
              <a:avLst/>
            </a:prstGeom>
            <a:solidFill>
              <a:srgbClr val="8c8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052880" y="4649760"/>
              <a:ext cx="247680" cy="14400"/>
            </a:xfrm>
            <a:prstGeom prst="rect">
              <a:avLst/>
            </a:prstGeom>
            <a:solidFill>
              <a:srgbClr val="8c8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052880" y="4664160"/>
              <a:ext cx="247680" cy="3168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052880" y="4695840"/>
              <a:ext cx="247680" cy="3024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052880" y="4726080"/>
              <a:ext cx="247680" cy="1584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052880" y="4741920"/>
              <a:ext cx="247680" cy="3168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052880" y="4773600"/>
              <a:ext cx="247680" cy="3024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052880" y="4803840"/>
              <a:ext cx="247680" cy="15840"/>
            </a:xfrm>
            <a:prstGeom prst="rect">
              <a:avLst/>
            </a:prstGeom>
            <a:solidFill>
              <a:srgbClr val="919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052880" y="4819680"/>
              <a:ext cx="247680" cy="3024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4052880" y="4849920"/>
              <a:ext cx="247680" cy="3168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052880" y="4881600"/>
              <a:ext cx="247680" cy="1440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4052880" y="4896000"/>
              <a:ext cx="247680" cy="3168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052880" y="4927680"/>
              <a:ext cx="247680" cy="3024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052880" y="4957920"/>
              <a:ext cx="247680" cy="1584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052880" y="4973760"/>
              <a:ext cx="247680" cy="3168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052880" y="5005440"/>
              <a:ext cx="247680" cy="3024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052880" y="5035680"/>
              <a:ext cx="247680" cy="158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052880" y="5051520"/>
              <a:ext cx="247680" cy="302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052880" y="5081760"/>
              <a:ext cx="247680" cy="316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4052880" y="5113440"/>
              <a:ext cx="247680" cy="1404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4052880" y="5127480"/>
              <a:ext cx="247680" cy="3204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4052880" y="5159520"/>
              <a:ext cx="247680" cy="2988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052880" y="5189400"/>
              <a:ext cx="247680" cy="158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052880" y="5205240"/>
              <a:ext cx="247680" cy="30240"/>
            </a:xfrm>
            <a:prstGeom prst="rect">
              <a:avLst/>
            </a:prstGeom>
            <a:solidFill>
              <a:srgbClr val="979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052880" y="5235480"/>
              <a:ext cx="247680" cy="3168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052880" y="5267160"/>
              <a:ext cx="247680" cy="1620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052880" y="5283360"/>
              <a:ext cx="247680" cy="298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052880" y="5313240"/>
              <a:ext cx="247680" cy="320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052880" y="5345280"/>
              <a:ext cx="247680" cy="140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4052880" y="5359320"/>
              <a:ext cx="2476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4" name=""/>
          <p:cNvSpPr/>
          <p:nvPr/>
        </p:nvSpPr>
        <p:spPr>
          <a:xfrm>
            <a:off x="4052880" y="2919240"/>
            <a:ext cx="247680" cy="24717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5" name=""/>
          <p:cNvGrpSpPr/>
          <p:nvPr/>
        </p:nvGrpSpPr>
        <p:grpSpPr>
          <a:xfrm>
            <a:off x="4640400" y="3089160"/>
            <a:ext cx="245880" cy="2301840"/>
            <a:chOff x="4640400" y="3089160"/>
            <a:chExt cx="245880" cy="2301840"/>
          </a:xfrm>
        </p:grpSpPr>
        <p:sp>
          <p:nvSpPr>
            <p:cNvPr id="1036" name=""/>
            <p:cNvSpPr/>
            <p:nvPr/>
          </p:nvSpPr>
          <p:spPr>
            <a:xfrm>
              <a:off x="4640400" y="3089160"/>
              <a:ext cx="245880" cy="320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640400" y="3121200"/>
              <a:ext cx="245880" cy="140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640400" y="3135240"/>
              <a:ext cx="245880" cy="3168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4640400" y="3166920"/>
              <a:ext cx="245880" cy="1440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4640400" y="3181320"/>
              <a:ext cx="245880" cy="3168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640400" y="3213000"/>
              <a:ext cx="245880" cy="1584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640400" y="3228840"/>
              <a:ext cx="245880" cy="302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640400" y="3259080"/>
              <a:ext cx="245880" cy="158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640400" y="3274920"/>
              <a:ext cx="245880" cy="3024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4640400" y="3305160"/>
              <a:ext cx="245880" cy="3168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4640400" y="3336840"/>
              <a:ext cx="245880" cy="15840"/>
            </a:xfrm>
            <a:prstGeom prst="rect">
              <a:avLst/>
            </a:prstGeom>
            <a:solidFill>
              <a:srgbClr val="4b4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640400" y="3352680"/>
              <a:ext cx="245880" cy="3024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640400" y="3382920"/>
              <a:ext cx="245880" cy="158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4640400" y="3398760"/>
              <a:ext cx="245880" cy="30240"/>
            </a:xfrm>
            <a:prstGeom prst="rect">
              <a:avLst/>
            </a:prstGeom>
            <a:solidFill>
              <a:srgbClr val="4d4d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640400" y="3429000"/>
              <a:ext cx="245880" cy="1584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640400" y="3444840"/>
              <a:ext cx="245880" cy="3024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640400" y="3475080"/>
              <a:ext cx="245880" cy="15840"/>
            </a:xfrm>
            <a:prstGeom prst="rect">
              <a:avLst/>
            </a:prstGeom>
            <a:solidFill>
              <a:srgbClr val="4f4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640400" y="3490920"/>
              <a:ext cx="245880" cy="31680"/>
            </a:xfrm>
            <a:prstGeom prst="rect">
              <a:avLst/>
            </a:prstGeom>
            <a:solidFill>
              <a:srgbClr val="505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4640400" y="3522600"/>
              <a:ext cx="245880" cy="14400"/>
            </a:xfrm>
            <a:prstGeom prst="rect">
              <a:avLst/>
            </a:prstGeom>
            <a:solidFill>
              <a:srgbClr val="5151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4640400" y="3537000"/>
              <a:ext cx="245880" cy="3168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4640400" y="3568680"/>
              <a:ext cx="245880" cy="30240"/>
            </a:xfrm>
            <a:prstGeom prst="rect">
              <a:avLst/>
            </a:prstGeom>
            <a:solidFill>
              <a:srgbClr val="535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4640400" y="3598920"/>
              <a:ext cx="245880" cy="15840"/>
            </a:xfrm>
            <a:prstGeom prst="rect">
              <a:avLst/>
            </a:prstGeom>
            <a:solidFill>
              <a:srgbClr val="5454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640400" y="3614760"/>
              <a:ext cx="245880" cy="30240"/>
            </a:xfrm>
            <a:prstGeom prst="rect">
              <a:avLst/>
            </a:prstGeom>
            <a:solidFill>
              <a:srgbClr val="5555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640400" y="3645000"/>
              <a:ext cx="245880" cy="1584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640400" y="3660840"/>
              <a:ext cx="245880" cy="3168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640400" y="3692520"/>
              <a:ext cx="245880" cy="14400"/>
            </a:xfrm>
            <a:prstGeom prst="rect">
              <a:avLst/>
            </a:prstGeom>
            <a:solidFill>
              <a:srgbClr val="585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640400" y="3706920"/>
              <a:ext cx="245880" cy="316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640400" y="3738600"/>
              <a:ext cx="245880" cy="1440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640400" y="3753000"/>
              <a:ext cx="245880" cy="3168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640400" y="3784680"/>
              <a:ext cx="245880" cy="30240"/>
            </a:xfrm>
            <a:prstGeom prst="rect">
              <a:avLst/>
            </a:prstGeom>
            <a:solidFill>
              <a:srgbClr val="5e5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640400" y="3814920"/>
              <a:ext cx="245880" cy="1584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640400" y="3830760"/>
              <a:ext cx="245880" cy="31680"/>
            </a:xfrm>
            <a:prstGeom prst="rect">
              <a:avLst/>
            </a:prstGeom>
            <a:solidFill>
              <a:srgbClr val="606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640400" y="3862440"/>
              <a:ext cx="245880" cy="1440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640400" y="3876840"/>
              <a:ext cx="245880" cy="31680"/>
            </a:xfrm>
            <a:prstGeom prst="rect">
              <a:avLst/>
            </a:prstGeom>
            <a:solidFill>
              <a:srgbClr val="636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640400" y="3908520"/>
              <a:ext cx="245880" cy="14040"/>
            </a:xfrm>
            <a:prstGeom prst="rect">
              <a:avLst/>
            </a:prstGeom>
            <a:solidFill>
              <a:srgbClr val="6464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4640400" y="3922560"/>
              <a:ext cx="245880" cy="3204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640400" y="3954600"/>
              <a:ext cx="245880" cy="15840"/>
            </a:xfrm>
            <a:prstGeom prst="rect">
              <a:avLst/>
            </a:prstGeom>
            <a:solidFill>
              <a:srgbClr val="676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640400" y="3970440"/>
              <a:ext cx="245880" cy="3024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4640400" y="4000680"/>
              <a:ext cx="245880" cy="31680"/>
            </a:xfrm>
            <a:prstGeom prst="rect">
              <a:avLst/>
            </a:prstGeom>
            <a:solidFill>
              <a:srgbClr val="6a6a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4640400" y="4032360"/>
              <a:ext cx="245880" cy="140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640400" y="4046400"/>
              <a:ext cx="245880" cy="32040"/>
            </a:xfrm>
            <a:prstGeom prst="rect">
              <a:avLst/>
            </a:prstGeom>
            <a:solidFill>
              <a:srgbClr val="6d6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640400" y="4078440"/>
              <a:ext cx="245880" cy="15840"/>
            </a:xfrm>
            <a:prstGeom prst="rect">
              <a:avLst/>
            </a:prstGeom>
            <a:solidFill>
              <a:srgbClr val="6e6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640400" y="4094280"/>
              <a:ext cx="245880" cy="2988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640400" y="4124160"/>
              <a:ext cx="245880" cy="1620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4640400" y="4140360"/>
              <a:ext cx="245880" cy="2988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4640400" y="4170240"/>
              <a:ext cx="245880" cy="15840"/>
            </a:xfrm>
            <a:prstGeom prst="rect">
              <a:avLst/>
            </a:prstGeom>
            <a:solidFill>
              <a:srgbClr val="737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4640400" y="4186080"/>
              <a:ext cx="245880" cy="3024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4640400" y="4216320"/>
              <a:ext cx="245880" cy="1584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640400" y="4232160"/>
              <a:ext cx="245880" cy="32040"/>
            </a:xfrm>
            <a:prstGeom prst="rect">
              <a:avLst/>
            </a:prstGeom>
            <a:solidFill>
              <a:srgbClr val="777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640400" y="4264200"/>
              <a:ext cx="245880" cy="29880"/>
            </a:xfrm>
            <a:prstGeom prst="rect">
              <a:avLst/>
            </a:prstGeom>
            <a:solidFill>
              <a:srgbClr val="797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4640400" y="4294080"/>
              <a:ext cx="245880" cy="1584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4640400" y="4309920"/>
              <a:ext cx="245880" cy="302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4640400" y="4340160"/>
              <a:ext cx="245880" cy="15840"/>
            </a:xfrm>
            <a:prstGeom prst="rect">
              <a:avLst/>
            </a:prstGeom>
            <a:solidFill>
              <a:srgbClr val="7d7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4640400" y="4356000"/>
              <a:ext cx="245880" cy="3024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4640400" y="4386240"/>
              <a:ext cx="245880" cy="1584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640400" y="4402080"/>
              <a:ext cx="245880" cy="3168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640400" y="4433760"/>
              <a:ext cx="245880" cy="1440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4640400" y="4448160"/>
              <a:ext cx="245880" cy="31680"/>
            </a:xfrm>
            <a:prstGeom prst="rect">
              <a:avLst/>
            </a:prstGeom>
            <a:solidFill>
              <a:srgbClr val="828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640400" y="4479840"/>
              <a:ext cx="245880" cy="302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640400" y="4510080"/>
              <a:ext cx="245880" cy="1584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4640400" y="4525920"/>
              <a:ext cx="245880" cy="30240"/>
            </a:xfrm>
            <a:prstGeom prst="rect">
              <a:avLst/>
            </a:prstGeom>
            <a:solidFill>
              <a:srgbClr val="868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4640400" y="4556160"/>
              <a:ext cx="245880" cy="158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640400" y="4572000"/>
              <a:ext cx="245880" cy="3168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4640400" y="4603680"/>
              <a:ext cx="245880" cy="1440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640400" y="4618080"/>
              <a:ext cx="245880" cy="3168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640400" y="4649760"/>
              <a:ext cx="245880" cy="14400"/>
            </a:xfrm>
            <a:prstGeom prst="rect">
              <a:avLst/>
            </a:prstGeom>
            <a:solidFill>
              <a:srgbClr val="8b8b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640400" y="4664160"/>
              <a:ext cx="245880" cy="31680"/>
            </a:xfrm>
            <a:prstGeom prst="rect">
              <a:avLst/>
            </a:prstGeom>
            <a:solidFill>
              <a:srgbClr val="8b8b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640400" y="4695840"/>
              <a:ext cx="245880" cy="30240"/>
            </a:xfrm>
            <a:prstGeom prst="rect">
              <a:avLst/>
            </a:prstGeom>
            <a:solidFill>
              <a:srgbClr val="8d8d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4640400" y="4726080"/>
              <a:ext cx="245880" cy="1584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640400" y="4741920"/>
              <a:ext cx="245880" cy="3168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4640400" y="4773600"/>
              <a:ext cx="245880" cy="1440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640400" y="4788000"/>
              <a:ext cx="245880" cy="3168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640400" y="4819680"/>
              <a:ext cx="245880" cy="1440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4640400" y="4834080"/>
              <a:ext cx="245880" cy="31680"/>
            </a:xfrm>
            <a:prstGeom prst="rect">
              <a:avLst/>
            </a:prstGeom>
            <a:solidFill>
              <a:srgbClr val="919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640400" y="4865760"/>
              <a:ext cx="245880" cy="1584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4640400" y="4881600"/>
              <a:ext cx="245880" cy="302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4640400" y="4911840"/>
              <a:ext cx="245880" cy="3168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4640400" y="4943520"/>
              <a:ext cx="245880" cy="14400"/>
            </a:xfrm>
            <a:prstGeom prst="rect">
              <a:avLst/>
            </a:prstGeom>
            <a:solidFill>
              <a:srgbClr val="9393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640400" y="4957920"/>
              <a:ext cx="245880" cy="3168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640400" y="4989600"/>
              <a:ext cx="245880" cy="1584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640400" y="5005440"/>
              <a:ext cx="245880" cy="3024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4640400" y="5035680"/>
              <a:ext cx="245880" cy="1584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4640400" y="5051520"/>
              <a:ext cx="245880" cy="302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4640400" y="5081760"/>
              <a:ext cx="245880" cy="158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4640400" y="5097600"/>
              <a:ext cx="245880" cy="298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640400" y="5127480"/>
              <a:ext cx="245880" cy="1620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640400" y="5143680"/>
              <a:ext cx="245880" cy="3168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640400" y="5175360"/>
              <a:ext cx="245880" cy="2988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4640400" y="5205240"/>
              <a:ext cx="245880" cy="1620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4640400" y="5221440"/>
              <a:ext cx="245880" cy="29880"/>
            </a:xfrm>
            <a:prstGeom prst="rect">
              <a:avLst/>
            </a:prstGeom>
            <a:solidFill>
              <a:srgbClr val="979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4640400" y="5251320"/>
              <a:ext cx="245880" cy="158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4640400" y="5267160"/>
              <a:ext cx="245880" cy="302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640400" y="5297400"/>
              <a:ext cx="245880" cy="158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640400" y="5313240"/>
              <a:ext cx="245880" cy="320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4640400" y="5345280"/>
              <a:ext cx="245880" cy="140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4640400" y="5359320"/>
              <a:ext cx="2458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2" name=""/>
          <p:cNvSpPr/>
          <p:nvPr/>
        </p:nvSpPr>
        <p:spPr>
          <a:xfrm>
            <a:off x="4640400" y="3089160"/>
            <a:ext cx="245880" cy="23018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3" name=""/>
          <p:cNvGrpSpPr/>
          <p:nvPr/>
        </p:nvGrpSpPr>
        <p:grpSpPr>
          <a:xfrm>
            <a:off x="5226120" y="3274920"/>
            <a:ext cx="231840" cy="2116080"/>
            <a:chOff x="5226120" y="3274920"/>
            <a:chExt cx="231840" cy="2116080"/>
          </a:xfrm>
        </p:grpSpPr>
        <p:sp>
          <p:nvSpPr>
            <p:cNvPr id="1134" name=""/>
            <p:cNvSpPr/>
            <p:nvPr/>
          </p:nvSpPr>
          <p:spPr>
            <a:xfrm>
              <a:off x="5226120" y="3274920"/>
              <a:ext cx="231840" cy="158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226120" y="3290760"/>
              <a:ext cx="23184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226120" y="3321000"/>
              <a:ext cx="231840" cy="1584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5226120" y="3336840"/>
              <a:ext cx="231840" cy="3024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226120" y="3367080"/>
              <a:ext cx="231840" cy="1584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5226120" y="3382920"/>
              <a:ext cx="231840" cy="3024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5226120" y="3413160"/>
              <a:ext cx="231840" cy="158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5226120" y="3429000"/>
              <a:ext cx="231840" cy="158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226120" y="3444840"/>
              <a:ext cx="231840" cy="3024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5226120" y="3475080"/>
              <a:ext cx="231840" cy="1584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226120" y="3490920"/>
              <a:ext cx="231840" cy="31680"/>
            </a:xfrm>
            <a:prstGeom prst="rect">
              <a:avLst/>
            </a:prstGeom>
            <a:solidFill>
              <a:srgbClr val="4b4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226120" y="3522600"/>
              <a:ext cx="231840" cy="1440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226120" y="3537000"/>
              <a:ext cx="231840" cy="3168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226120" y="3568680"/>
              <a:ext cx="231840" cy="14400"/>
            </a:xfrm>
            <a:prstGeom prst="rect">
              <a:avLst/>
            </a:prstGeom>
            <a:solidFill>
              <a:srgbClr val="4d4d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5226120" y="3583080"/>
              <a:ext cx="231840" cy="1584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5226120" y="3598920"/>
              <a:ext cx="231840" cy="3168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5226120" y="3630600"/>
              <a:ext cx="231840" cy="14400"/>
            </a:xfrm>
            <a:prstGeom prst="rect">
              <a:avLst/>
            </a:prstGeom>
            <a:solidFill>
              <a:srgbClr val="4f4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226120" y="3645000"/>
              <a:ext cx="231840" cy="31680"/>
            </a:xfrm>
            <a:prstGeom prst="rect">
              <a:avLst/>
            </a:prstGeom>
            <a:solidFill>
              <a:srgbClr val="505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5226120" y="3676680"/>
              <a:ext cx="231840" cy="15840"/>
            </a:xfrm>
            <a:prstGeom prst="rect">
              <a:avLst/>
            </a:prstGeom>
            <a:solidFill>
              <a:srgbClr val="515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226120" y="3692520"/>
              <a:ext cx="231840" cy="3024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226120" y="3722760"/>
              <a:ext cx="231840" cy="15840"/>
            </a:xfrm>
            <a:prstGeom prst="rect">
              <a:avLst/>
            </a:prstGeom>
            <a:solidFill>
              <a:srgbClr val="545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226120" y="3738600"/>
              <a:ext cx="231840" cy="14400"/>
            </a:xfrm>
            <a:prstGeom prst="rect">
              <a:avLst/>
            </a:prstGeom>
            <a:solidFill>
              <a:srgbClr val="545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5226120" y="3753000"/>
              <a:ext cx="231840" cy="31680"/>
            </a:xfrm>
            <a:prstGeom prst="rect">
              <a:avLst/>
            </a:prstGeom>
            <a:solidFill>
              <a:srgbClr val="555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5226120" y="3784680"/>
              <a:ext cx="231840" cy="1584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5226120" y="3800520"/>
              <a:ext cx="231840" cy="3024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5226120" y="3830760"/>
              <a:ext cx="231840" cy="15840"/>
            </a:xfrm>
            <a:prstGeom prst="rect">
              <a:avLst/>
            </a:prstGeom>
            <a:solidFill>
              <a:srgbClr val="595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5226120" y="3846600"/>
              <a:ext cx="231840" cy="3024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5226120" y="3876840"/>
              <a:ext cx="231840" cy="1584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226120" y="3892680"/>
              <a:ext cx="231840" cy="1584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5226120" y="3908520"/>
              <a:ext cx="231840" cy="30240"/>
            </a:xfrm>
            <a:prstGeom prst="rect">
              <a:avLst/>
            </a:prstGeom>
            <a:solidFill>
              <a:srgbClr val="5d5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5226120" y="3938760"/>
              <a:ext cx="231840" cy="1584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5226120" y="3954600"/>
              <a:ext cx="231840" cy="29880"/>
            </a:xfrm>
            <a:prstGeom prst="rect">
              <a:avLst/>
            </a:prstGeom>
            <a:solidFill>
              <a:srgbClr val="606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226120" y="3984480"/>
              <a:ext cx="231840" cy="1620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226120" y="4000680"/>
              <a:ext cx="231840" cy="31680"/>
            </a:xfrm>
            <a:prstGeom prst="rect">
              <a:avLst/>
            </a:prstGeom>
            <a:solidFill>
              <a:srgbClr val="636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226120" y="4032360"/>
              <a:ext cx="231840" cy="14040"/>
            </a:xfrm>
            <a:prstGeom prst="rect">
              <a:avLst/>
            </a:prstGeom>
            <a:solidFill>
              <a:srgbClr val="646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226120" y="4046400"/>
              <a:ext cx="231840" cy="1584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226120" y="4062240"/>
              <a:ext cx="231840" cy="32040"/>
            </a:xfrm>
            <a:prstGeom prst="rect">
              <a:avLst/>
            </a:prstGeom>
            <a:solidFill>
              <a:srgbClr val="676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226120" y="4094280"/>
              <a:ext cx="231840" cy="1404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5226120" y="4108320"/>
              <a:ext cx="231840" cy="3204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226120" y="4140360"/>
              <a:ext cx="231840" cy="140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226120" y="4154400"/>
              <a:ext cx="231840" cy="31680"/>
            </a:xfrm>
            <a:prstGeom prst="rect">
              <a:avLst/>
            </a:prstGeom>
            <a:solidFill>
              <a:srgbClr val="6d6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226120" y="4186080"/>
              <a:ext cx="231840" cy="16200"/>
            </a:xfrm>
            <a:prstGeom prst="rect">
              <a:avLst/>
            </a:prstGeom>
            <a:solidFill>
              <a:srgbClr val="6e6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5226120" y="4202280"/>
              <a:ext cx="231840" cy="1404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226120" y="4216320"/>
              <a:ext cx="231840" cy="3168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5226120" y="4248000"/>
              <a:ext cx="231840" cy="1620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226120" y="4264200"/>
              <a:ext cx="231840" cy="29880"/>
            </a:xfrm>
            <a:prstGeom prst="rect">
              <a:avLst/>
            </a:prstGeom>
            <a:solidFill>
              <a:srgbClr val="737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226120" y="4294080"/>
              <a:ext cx="231840" cy="15840"/>
            </a:xfrm>
            <a:prstGeom prst="rect">
              <a:avLst/>
            </a:prstGeom>
            <a:solidFill>
              <a:srgbClr val="7575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226120" y="4309920"/>
              <a:ext cx="231840" cy="1440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5226120" y="4324320"/>
              <a:ext cx="231840" cy="31680"/>
            </a:xfrm>
            <a:prstGeom prst="rect">
              <a:avLst/>
            </a:prstGeom>
            <a:solidFill>
              <a:srgbClr val="777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5226120" y="4356000"/>
              <a:ext cx="231840" cy="15840"/>
            </a:xfrm>
            <a:prstGeom prst="rect">
              <a:avLst/>
            </a:prstGeom>
            <a:solidFill>
              <a:srgbClr val="797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226120" y="4371840"/>
              <a:ext cx="231840" cy="3024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5226120" y="4402080"/>
              <a:ext cx="231840" cy="158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226120" y="4417920"/>
              <a:ext cx="231840" cy="30240"/>
            </a:xfrm>
            <a:prstGeom prst="rect">
              <a:avLst/>
            </a:prstGeom>
            <a:solidFill>
              <a:srgbClr val="7d7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226120" y="4448160"/>
              <a:ext cx="231840" cy="1584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5226120" y="4464000"/>
              <a:ext cx="231840" cy="15840"/>
            </a:xfrm>
            <a:prstGeom prst="rect">
              <a:avLst/>
            </a:prstGeom>
            <a:solidFill>
              <a:srgbClr val="7f7f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5226120" y="4479840"/>
              <a:ext cx="231840" cy="3024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5226120" y="4510080"/>
              <a:ext cx="231840" cy="1584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5226120" y="4525920"/>
              <a:ext cx="231840" cy="30240"/>
            </a:xfrm>
            <a:prstGeom prst="rect">
              <a:avLst/>
            </a:prstGeom>
            <a:solidFill>
              <a:srgbClr val="838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5226120" y="4556160"/>
              <a:ext cx="231840" cy="158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5226120" y="4572000"/>
              <a:ext cx="231840" cy="3168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5226120" y="4603680"/>
              <a:ext cx="231840" cy="14400"/>
            </a:xfrm>
            <a:prstGeom prst="rect">
              <a:avLst/>
            </a:prstGeom>
            <a:solidFill>
              <a:srgbClr val="868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5226120" y="4618080"/>
              <a:ext cx="231840" cy="158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5226120" y="4633920"/>
              <a:ext cx="231840" cy="3024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5226120" y="4664160"/>
              <a:ext cx="231840" cy="1584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226120" y="4680000"/>
              <a:ext cx="231840" cy="3168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226120" y="4711680"/>
              <a:ext cx="231840" cy="14400"/>
            </a:xfrm>
            <a:prstGeom prst="rect">
              <a:avLst/>
            </a:prstGeom>
            <a:solidFill>
              <a:srgbClr val="8b8b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5226120" y="4726080"/>
              <a:ext cx="231840" cy="31680"/>
            </a:xfrm>
            <a:prstGeom prst="rect">
              <a:avLst/>
            </a:prstGeom>
            <a:solidFill>
              <a:srgbClr val="8c8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5226120" y="4757760"/>
              <a:ext cx="231840" cy="15840"/>
            </a:xfrm>
            <a:prstGeom prst="rect">
              <a:avLst/>
            </a:prstGeom>
            <a:solidFill>
              <a:srgbClr val="8d8d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5226120" y="4773600"/>
              <a:ext cx="231840" cy="1440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5226120" y="4788000"/>
              <a:ext cx="231840" cy="3168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5226120" y="4819680"/>
              <a:ext cx="231840" cy="1440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5226120" y="4834080"/>
              <a:ext cx="231840" cy="3168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226120" y="4865760"/>
              <a:ext cx="231840" cy="1584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5226120" y="4881600"/>
              <a:ext cx="231840" cy="3024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5226120" y="4911840"/>
              <a:ext cx="231840" cy="15840"/>
            </a:xfrm>
            <a:prstGeom prst="rect">
              <a:avLst/>
            </a:prstGeom>
            <a:solidFill>
              <a:srgbClr val="929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5226120" y="4927680"/>
              <a:ext cx="231840" cy="15840"/>
            </a:xfrm>
            <a:prstGeom prst="rect">
              <a:avLst/>
            </a:prstGeom>
            <a:solidFill>
              <a:srgbClr val="929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5226120" y="4943520"/>
              <a:ext cx="231840" cy="302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5226120" y="4973760"/>
              <a:ext cx="231840" cy="1584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5226120" y="4989600"/>
              <a:ext cx="231840" cy="3024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5226120" y="5019840"/>
              <a:ext cx="231840" cy="1584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5226120" y="5035680"/>
              <a:ext cx="231840" cy="2988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226120" y="5065560"/>
              <a:ext cx="231840" cy="1620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226120" y="5081760"/>
              <a:ext cx="231840" cy="158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226120" y="5097600"/>
              <a:ext cx="231840" cy="298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5226120" y="5127480"/>
              <a:ext cx="231840" cy="1620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226120" y="5143680"/>
              <a:ext cx="231840" cy="3168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226120" y="5175360"/>
              <a:ext cx="231840" cy="1404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226120" y="5189400"/>
              <a:ext cx="231840" cy="32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226120" y="5221440"/>
              <a:ext cx="231840" cy="14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226120" y="5235480"/>
              <a:ext cx="231840" cy="15840"/>
            </a:xfrm>
            <a:prstGeom prst="rect">
              <a:avLst/>
            </a:prstGeom>
            <a:solidFill>
              <a:srgbClr val="979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226120" y="5251320"/>
              <a:ext cx="231840" cy="320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226120" y="5283360"/>
              <a:ext cx="231840" cy="140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5226120" y="5297400"/>
              <a:ext cx="23184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5226120" y="5329080"/>
              <a:ext cx="231840" cy="1620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226120" y="5345280"/>
              <a:ext cx="231840" cy="298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5226120" y="5375160"/>
              <a:ext cx="231840" cy="1584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0" name=""/>
          <p:cNvSpPr/>
          <p:nvPr/>
        </p:nvSpPr>
        <p:spPr>
          <a:xfrm>
            <a:off x="5226120" y="3274920"/>
            <a:ext cx="231840" cy="21160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1" name=""/>
          <p:cNvGrpSpPr/>
          <p:nvPr/>
        </p:nvGrpSpPr>
        <p:grpSpPr>
          <a:xfrm>
            <a:off x="5797440" y="3537000"/>
            <a:ext cx="247680" cy="1854000"/>
            <a:chOff x="5797440" y="3537000"/>
            <a:chExt cx="247680" cy="1854000"/>
          </a:xfrm>
        </p:grpSpPr>
        <p:sp>
          <p:nvSpPr>
            <p:cNvPr id="1232" name=""/>
            <p:cNvSpPr/>
            <p:nvPr/>
          </p:nvSpPr>
          <p:spPr>
            <a:xfrm>
              <a:off x="5797440" y="3537000"/>
              <a:ext cx="247680" cy="158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5797440" y="3552840"/>
              <a:ext cx="247680" cy="158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797440" y="3568680"/>
              <a:ext cx="247680" cy="3024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797440" y="3598920"/>
              <a:ext cx="247680" cy="1584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5797440" y="3614760"/>
              <a:ext cx="247680" cy="1584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5797440" y="3630600"/>
              <a:ext cx="247680" cy="1440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797440" y="3645000"/>
              <a:ext cx="247680" cy="3168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797440" y="3676680"/>
              <a:ext cx="247680" cy="1584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5797440" y="3692520"/>
              <a:ext cx="247680" cy="1440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5797440" y="3706920"/>
              <a:ext cx="247680" cy="15840"/>
            </a:xfrm>
            <a:prstGeom prst="rect">
              <a:avLst/>
            </a:prstGeom>
            <a:solidFill>
              <a:srgbClr val="4a4a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5797440" y="3722760"/>
              <a:ext cx="247680" cy="30240"/>
            </a:xfrm>
            <a:prstGeom prst="rect">
              <a:avLst/>
            </a:prstGeom>
            <a:solidFill>
              <a:srgbClr val="4b4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5797440" y="3753000"/>
              <a:ext cx="247680" cy="1584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797440" y="3768840"/>
              <a:ext cx="247680" cy="158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797440" y="3784680"/>
              <a:ext cx="247680" cy="158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797440" y="3800520"/>
              <a:ext cx="247680" cy="3024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797440" y="3830760"/>
              <a:ext cx="247680" cy="1584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797440" y="3846600"/>
              <a:ext cx="247680" cy="15840"/>
            </a:xfrm>
            <a:prstGeom prst="rect">
              <a:avLst/>
            </a:prstGeom>
            <a:solidFill>
              <a:srgbClr val="4f4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797440" y="3862440"/>
              <a:ext cx="247680" cy="14400"/>
            </a:xfrm>
            <a:prstGeom prst="rect">
              <a:avLst/>
            </a:prstGeom>
            <a:solidFill>
              <a:srgbClr val="5050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797440" y="3876840"/>
              <a:ext cx="247680" cy="31680"/>
            </a:xfrm>
            <a:prstGeom prst="rect">
              <a:avLst/>
            </a:prstGeom>
            <a:solidFill>
              <a:srgbClr val="515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797440" y="3908520"/>
              <a:ext cx="247680" cy="1404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797440" y="3922560"/>
              <a:ext cx="247680" cy="16200"/>
            </a:xfrm>
            <a:prstGeom prst="rect">
              <a:avLst/>
            </a:prstGeom>
            <a:solidFill>
              <a:srgbClr val="535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797440" y="3938760"/>
              <a:ext cx="247680" cy="15840"/>
            </a:xfrm>
            <a:prstGeom prst="rect">
              <a:avLst/>
            </a:prstGeom>
            <a:solidFill>
              <a:srgbClr val="545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5797440" y="3954600"/>
              <a:ext cx="247680" cy="29880"/>
            </a:xfrm>
            <a:prstGeom prst="rect">
              <a:avLst/>
            </a:prstGeom>
            <a:solidFill>
              <a:srgbClr val="555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5797440" y="3984480"/>
              <a:ext cx="247680" cy="1620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797440" y="4000680"/>
              <a:ext cx="247680" cy="1584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5797440" y="4016520"/>
              <a:ext cx="247680" cy="15840"/>
            </a:xfrm>
            <a:prstGeom prst="rect">
              <a:avLst/>
            </a:prstGeom>
            <a:solidFill>
              <a:srgbClr val="585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797440" y="4032360"/>
              <a:ext cx="247680" cy="298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5797440" y="4062240"/>
              <a:ext cx="247680" cy="1620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797440" y="4078440"/>
              <a:ext cx="247680" cy="1584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797440" y="4094280"/>
              <a:ext cx="247680" cy="14040"/>
            </a:xfrm>
            <a:prstGeom prst="rect">
              <a:avLst/>
            </a:prstGeom>
            <a:solidFill>
              <a:srgbClr val="5d5d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797440" y="4108320"/>
              <a:ext cx="247680" cy="3204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5797440" y="4140360"/>
              <a:ext cx="247680" cy="14040"/>
            </a:xfrm>
            <a:prstGeom prst="rect">
              <a:avLst/>
            </a:prstGeom>
            <a:solidFill>
              <a:srgbClr val="606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5797440" y="4154400"/>
              <a:ext cx="247680" cy="1584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797440" y="4170240"/>
              <a:ext cx="247680" cy="15840"/>
            </a:xfrm>
            <a:prstGeom prst="rect">
              <a:avLst/>
            </a:prstGeom>
            <a:solidFill>
              <a:srgbClr val="626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797440" y="4186080"/>
              <a:ext cx="247680" cy="30240"/>
            </a:xfrm>
            <a:prstGeom prst="rect">
              <a:avLst/>
            </a:prstGeom>
            <a:solidFill>
              <a:srgbClr val="6464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797440" y="4216320"/>
              <a:ext cx="247680" cy="1584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797440" y="4232160"/>
              <a:ext cx="247680" cy="15840"/>
            </a:xfrm>
            <a:prstGeom prst="rect">
              <a:avLst/>
            </a:prstGeom>
            <a:solidFill>
              <a:srgbClr val="676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797440" y="4248000"/>
              <a:ext cx="247680" cy="1620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797440" y="4264200"/>
              <a:ext cx="247680" cy="2988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797440" y="4294080"/>
              <a:ext cx="247680" cy="158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5797440" y="4309920"/>
              <a:ext cx="247680" cy="14400"/>
            </a:xfrm>
            <a:prstGeom prst="rect">
              <a:avLst/>
            </a:prstGeom>
            <a:solidFill>
              <a:srgbClr val="6c6c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5797440" y="4324320"/>
              <a:ext cx="247680" cy="15840"/>
            </a:xfrm>
            <a:prstGeom prst="rect">
              <a:avLst/>
            </a:prstGeom>
            <a:solidFill>
              <a:srgbClr val="6d6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5797440" y="4340160"/>
              <a:ext cx="247680" cy="3168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5797440" y="4371840"/>
              <a:ext cx="247680" cy="14400"/>
            </a:xfrm>
            <a:prstGeom prst="rect">
              <a:avLst/>
            </a:prstGeom>
            <a:solidFill>
              <a:srgbClr val="7171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5797440" y="4386240"/>
              <a:ext cx="247680" cy="1584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5797440" y="4402080"/>
              <a:ext cx="247680" cy="15840"/>
            </a:xfrm>
            <a:prstGeom prst="rect">
              <a:avLst/>
            </a:prstGeom>
            <a:solidFill>
              <a:srgbClr val="737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5797440" y="4417920"/>
              <a:ext cx="247680" cy="3024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5797440" y="4448160"/>
              <a:ext cx="247680" cy="1584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5797440" y="4464000"/>
              <a:ext cx="247680" cy="15840"/>
            </a:xfrm>
            <a:prstGeom prst="rect">
              <a:avLst/>
            </a:prstGeom>
            <a:solidFill>
              <a:srgbClr val="787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5797440" y="4479840"/>
              <a:ext cx="247680" cy="14400"/>
            </a:xfrm>
            <a:prstGeom prst="rect">
              <a:avLst/>
            </a:prstGeom>
            <a:solidFill>
              <a:srgbClr val="797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5797440" y="4494240"/>
              <a:ext cx="247680" cy="3168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5797440" y="4525920"/>
              <a:ext cx="247680" cy="158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5797440" y="4541760"/>
              <a:ext cx="247680" cy="14400"/>
            </a:xfrm>
            <a:prstGeom prst="rect">
              <a:avLst/>
            </a:prstGeom>
            <a:solidFill>
              <a:srgbClr val="7c7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5797440" y="4556160"/>
              <a:ext cx="247680" cy="15840"/>
            </a:xfrm>
            <a:prstGeom prst="rect">
              <a:avLst/>
            </a:prstGeom>
            <a:solidFill>
              <a:srgbClr val="7d7d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5797440" y="4572000"/>
              <a:ext cx="247680" cy="3168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5797440" y="4603680"/>
              <a:ext cx="247680" cy="14400"/>
            </a:xfrm>
            <a:prstGeom prst="rect">
              <a:avLst/>
            </a:prstGeom>
            <a:solidFill>
              <a:srgbClr val="8181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5797440" y="4618080"/>
              <a:ext cx="247680" cy="1584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5797440" y="4633920"/>
              <a:ext cx="247680" cy="15840"/>
            </a:xfrm>
            <a:prstGeom prst="rect">
              <a:avLst/>
            </a:prstGeom>
            <a:solidFill>
              <a:srgbClr val="828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5797440" y="4649760"/>
              <a:ext cx="247680" cy="302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5797440" y="4680000"/>
              <a:ext cx="247680" cy="1584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5797440" y="4695840"/>
              <a:ext cx="247680" cy="15840"/>
            </a:xfrm>
            <a:prstGeom prst="rect">
              <a:avLst/>
            </a:prstGeom>
            <a:solidFill>
              <a:srgbClr val="868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5797440" y="4711680"/>
              <a:ext cx="247680" cy="1440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5797440" y="4726080"/>
              <a:ext cx="247680" cy="3168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5797440" y="4757760"/>
              <a:ext cx="247680" cy="1584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5797440" y="4773600"/>
              <a:ext cx="247680" cy="1440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5797440" y="4788000"/>
              <a:ext cx="247680" cy="15840"/>
            </a:xfrm>
            <a:prstGeom prst="rect">
              <a:avLst/>
            </a:prstGeom>
            <a:solidFill>
              <a:srgbClr val="8a8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797440" y="4803840"/>
              <a:ext cx="247680" cy="30240"/>
            </a:xfrm>
            <a:prstGeom prst="rect">
              <a:avLst/>
            </a:prstGeom>
            <a:solidFill>
              <a:srgbClr val="8c8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797440" y="4834080"/>
              <a:ext cx="247680" cy="15840"/>
            </a:xfrm>
            <a:prstGeom prst="rect">
              <a:avLst/>
            </a:prstGeom>
            <a:solidFill>
              <a:srgbClr val="8d8d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5797440" y="4849920"/>
              <a:ext cx="247680" cy="1584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797440" y="4865760"/>
              <a:ext cx="247680" cy="1584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797440" y="4881600"/>
              <a:ext cx="247680" cy="3024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5797440" y="4911840"/>
              <a:ext cx="247680" cy="1584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5797440" y="4927680"/>
              <a:ext cx="247680" cy="1584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5797440" y="4943520"/>
              <a:ext cx="247680" cy="14400"/>
            </a:xfrm>
            <a:prstGeom prst="rect">
              <a:avLst/>
            </a:prstGeom>
            <a:solidFill>
              <a:srgbClr val="919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797440" y="4957920"/>
              <a:ext cx="247680" cy="3168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797440" y="4989600"/>
              <a:ext cx="247680" cy="158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797440" y="5005440"/>
              <a:ext cx="247680" cy="1440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797440" y="5019840"/>
              <a:ext cx="247680" cy="1584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797440" y="5035680"/>
              <a:ext cx="247680" cy="2988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797440" y="5065560"/>
              <a:ext cx="247680" cy="1620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797440" y="5081760"/>
              <a:ext cx="247680" cy="1584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797440" y="5097600"/>
              <a:ext cx="247680" cy="1584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797440" y="5113440"/>
              <a:ext cx="247680" cy="302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797440" y="5143680"/>
              <a:ext cx="247680" cy="158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797440" y="5159520"/>
              <a:ext cx="247680" cy="158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797440" y="5175360"/>
              <a:ext cx="247680" cy="1404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5797440" y="5189400"/>
              <a:ext cx="247680" cy="3204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797440" y="5221440"/>
              <a:ext cx="247680" cy="14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5797440" y="5235480"/>
              <a:ext cx="247680" cy="158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5797440" y="5251320"/>
              <a:ext cx="247680" cy="158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797440" y="5267160"/>
              <a:ext cx="247680" cy="302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797440" y="5297400"/>
              <a:ext cx="247680" cy="158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797440" y="5313240"/>
              <a:ext cx="247680" cy="158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5797440" y="5329080"/>
              <a:ext cx="247680" cy="1620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797440" y="5345280"/>
              <a:ext cx="247680" cy="298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5797440" y="5375160"/>
              <a:ext cx="247680" cy="158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8" name=""/>
          <p:cNvSpPr/>
          <p:nvPr/>
        </p:nvSpPr>
        <p:spPr>
          <a:xfrm>
            <a:off x="5797440" y="3537000"/>
            <a:ext cx="247680" cy="18540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9" name=""/>
          <p:cNvGrpSpPr/>
          <p:nvPr/>
        </p:nvGrpSpPr>
        <p:grpSpPr>
          <a:xfrm>
            <a:off x="6384960" y="4170240"/>
            <a:ext cx="245880" cy="1220760"/>
            <a:chOff x="6384960" y="4170240"/>
            <a:chExt cx="245880" cy="1220760"/>
          </a:xfrm>
        </p:grpSpPr>
        <p:sp>
          <p:nvSpPr>
            <p:cNvPr id="1330" name=""/>
            <p:cNvSpPr/>
            <p:nvPr/>
          </p:nvSpPr>
          <p:spPr>
            <a:xfrm>
              <a:off x="6384960" y="4170240"/>
              <a:ext cx="245880" cy="320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6384960" y="4202280"/>
              <a:ext cx="245880" cy="1404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384960" y="4216320"/>
              <a:ext cx="245880" cy="3168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6384960" y="4248000"/>
              <a:ext cx="245880" cy="302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384960" y="4278240"/>
              <a:ext cx="245880" cy="15840"/>
            </a:xfrm>
            <a:prstGeom prst="rect">
              <a:avLst/>
            </a:prstGeom>
            <a:solidFill>
              <a:srgbClr val="4a4a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6384960" y="4294080"/>
              <a:ext cx="245880" cy="3024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6384960" y="4324320"/>
              <a:ext cx="245880" cy="3168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384960" y="4356000"/>
              <a:ext cx="245880" cy="15840"/>
            </a:xfrm>
            <a:prstGeom prst="rect">
              <a:avLst/>
            </a:prstGeom>
            <a:solidFill>
              <a:srgbClr val="4e4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6384960" y="4371840"/>
              <a:ext cx="245880" cy="30240"/>
            </a:xfrm>
            <a:prstGeom prst="rect">
              <a:avLst/>
            </a:prstGeom>
            <a:solidFill>
              <a:srgbClr val="5050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6384960" y="4402080"/>
              <a:ext cx="245880" cy="15840"/>
            </a:xfrm>
            <a:prstGeom prst="rect">
              <a:avLst/>
            </a:prstGeom>
            <a:solidFill>
              <a:srgbClr val="5252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6384960" y="4417920"/>
              <a:ext cx="245880" cy="30240"/>
            </a:xfrm>
            <a:prstGeom prst="rect">
              <a:avLst/>
            </a:prstGeom>
            <a:solidFill>
              <a:srgbClr val="545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6384960" y="4448160"/>
              <a:ext cx="245880" cy="31680"/>
            </a:xfrm>
            <a:prstGeom prst="rect">
              <a:avLst/>
            </a:prstGeom>
            <a:solidFill>
              <a:srgbClr val="5656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6384960" y="4479840"/>
              <a:ext cx="245880" cy="14400"/>
            </a:xfrm>
            <a:prstGeom prst="rect">
              <a:avLst/>
            </a:prstGeom>
            <a:solidFill>
              <a:srgbClr val="585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6384960" y="4494240"/>
              <a:ext cx="245880" cy="316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6384960" y="4525920"/>
              <a:ext cx="245880" cy="30240"/>
            </a:xfrm>
            <a:prstGeom prst="rect">
              <a:avLst/>
            </a:prstGeom>
            <a:solidFill>
              <a:srgbClr val="5d5d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6384960" y="4556160"/>
              <a:ext cx="245880" cy="15840"/>
            </a:xfrm>
            <a:prstGeom prst="rect">
              <a:avLst/>
            </a:prstGeom>
            <a:solidFill>
              <a:srgbClr val="5f5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6384960" y="4572000"/>
              <a:ext cx="245880" cy="31680"/>
            </a:xfrm>
            <a:prstGeom prst="rect">
              <a:avLst/>
            </a:prstGeom>
            <a:solidFill>
              <a:srgbClr val="626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6384960" y="4603680"/>
              <a:ext cx="245880" cy="30240"/>
            </a:xfrm>
            <a:prstGeom prst="rect">
              <a:avLst/>
            </a:prstGeom>
            <a:solidFill>
              <a:srgbClr val="656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6384960" y="4633920"/>
              <a:ext cx="245880" cy="15840"/>
            </a:xfrm>
            <a:prstGeom prst="rect">
              <a:avLst/>
            </a:prstGeom>
            <a:solidFill>
              <a:srgbClr val="6767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6384960" y="4649760"/>
              <a:ext cx="245880" cy="30240"/>
            </a:xfrm>
            <a:prstGeom prst="rect">
              <a:avLst/>
            </a:prstGeom>
            <a:solidFill>
              <a:srgbClr val="6a6a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6384960" y="4680000"/>
              <a:ext cx="245880" cy="31680"/>
            </a:xfrm>
            <a:prstGeom prst="rect">
              <a:avLst/>
            </a:prstGeom>
            <a:solidFill>
              <a:srgbClr val="6e6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6384960" y="4711680"/>
              <a:ext cx="245880" cy="1440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6384960" y="4726080"/>
              <a:ext cx="245880" cy="31680"/>
            </a:xfrm>
            <a:prstGeom prst="rect">
              <a:avLst/>
            </a:prstGeom>
            <a:solidFill>
              <a:srgbClr val="7272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6384960" y="4757760"/>
              <a:ext cx="245880" cy="15840"/>
            </a:xfrm>
            <a:prstGeom prst="rect">
              <a:avLst/>
            </a:prstGeom>
            <a:solidFill>
              <a:srgbClr val="7575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6384960" y="4773600"/>
              <a:ext cx="245880" cy="30240"/>
            </a:xfrm>
            <a:prstGeom prst="rect">
              <a:avLst/>
            </a:prstGeom>
            <a:solidFill>
              <a:srgbClr val="787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6384960" y="4803840"/>
              <a:ext cx="245880" cy="30240"/>
            </a:xfrm>
            <a:prstGeom prst="rect">
              <a:avLst/>
            </a:prstGeom>
            <a:solidFill>
              <a:srgbClr val="7b7b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6384960" y="4834080"/>
              <a:ext cx="245880" cy="15840"/>
            </a:xfrm>
            <a:prstGeom prst="rect">
              <a:avLst/>
            </a:prstGeom>
            <a:solidFill>
              <a:srgbClr val="7d7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6384960" y="4849920"/>
              <a:ext cx="245880" cy="3168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384960" y="4881600"/>
              <a:ext cx="245880" cy="30240"/>
            </a:xfrm>
            <a:prstGeom prst="rect">
              <a:avLst/>
            </a:prstGeom>
            <a:solidFill>
              <a:srgbClr val="828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6384960" y="4911840"/>
              <a:ext cx="245880" cy="15840"/>
            </a:xfrm>
            <a:prstGeom prst="rect">
              <a:avLst/>
            </a:prstGeom>
            <a:solidFill>
              <a:srgbClr val="8484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6384960" y="4927680"/>
              <a:ext cx="245880" cy="30240"/>
            </a:xfrm>
            <a:prstGeom prst="rect">
              <a:avLst/>
            </a:prstGeom>
            <a:solidFill>
              <a:srgbClr val="868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6384960" y="4957920"/>
              <a:ext cx="245880" cy="31680"/>
            </a:xfrm>
            <a:prstGeom prst="rect">
              <a:avLst/>
            </a:prstGeom>
            <a:solidFill>
              <a:srgbClr val="8989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6384960" y="4989600"/>
              <a:ext cx="245880" cy="15840"/>
            </a:xfrm>
            <a:prstGeom prst="rect">
              <a:avLst/>
            </a:prstGeom>
            <a:solidFill>
              <a:srgbClr val="8a8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6384960" y="5005440"/>
              <a:ext cx="245880" cy="30240"/>
            </a:xfrm>
            <a:prstGeom prst="rect">
              <a:avLst/>
            </a:prstGeom>
            <a:solidFill>
              <a:srgbClr val="8c8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6384960" y="5035680"/>
              <a:ext cx="245880" cy="2988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6384960" y="5065560"/>
              <a:ext cx="245880" cy="1620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6384960" y="5081760"/>
              <a:ext cx="245880" cy="3168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6384960" y="5113440"/>
              <a:ext cx="245880" cy="30240"/>
            </a:xfrm>
            <a:prstGeom prst="rect">
              <a:avLst/>
            </a:prstGeom>
            <a:solidFill>
              <a:srgbClr val="929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6384960" y="5143680"/>
              <a:ext cx="245880" cy="1584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6384960" y="5159520"/>
              <a:ext cx="245880" cy="2988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6384960" y="5189400"/>
              <a:ext cx="245880" cy="1584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6384960" y="5205240"/>
              <a:ext cx="245880" cy="302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6384960" y="5235480"/>
              <a:ext cx="245880" cy="316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6384960" y="5267160"/>
              <a:ext cx="245880" cy="1620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6384960" y="5283360"/>
              <a:ext cx="245880" cy="2988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6384960" y="5313240"/>
              <a:ext cx="245880" cy="320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6384960" y="5345280"/>
              <a:ext cx="245880" cy="140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6384960" y="5359320"/>
              <a:ext cx="2458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8" name=""/>
          <p:cNvSpPr/>
          <p:nvPr/>
        </p:nvSpPr>
        <p:spPr>
          <a:xfrm>
            <a:off x="6384960" y="4170240"/>
            <a:ext cx="245880" cy="12207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9" name=""/>
          <p:cNvGrpSpPr/>
          <p:nvPr/>
        </p:nvGrpSpPr>
        <p:grpSpPr>
          <a:xfrm>
            <a:off x="6970680" y="4572000"/>
            <a:ext cx="247680" cy="819000"/>
            <a:chOff x="6970680" y="4572000"/>
            <a:chExt cx="247680" cy="819000"/>
          </a:xfrm>
        </p:grpSpPr>
        <p:sp>
          <p:nvSpPr>
            <p:cNvPr id="1380" name=""/>
            <p:cNvSpPr/>
            <p:nvPr/>
          </p:nvSpPr>
          <p:spPr>
            <a:xfrm>
              <a:off x="6970680" y="4572000"/>
              <a:ext cx="247680" cy="3168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6970680" y="4603680"/>
              <a:ext cx="247680" cy="1440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6970680" y="4618080"/>
              <a:ext cx="247680" cy="3168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6970680" y="4649760"/>
              <a:ext cx="247680" cy="30240"/>
            </a:xfrm>
            <a:prstGeom prst="rect">
              <a:avLst/>
            </a:prstGeom>
            <a:solidFill>
              <a:srgbClr val="4b4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6970680" y="4680000"/>
              <a:ext cx="247680" cy="15840"/>
            </a:xfrm>
            <a:prstGeom prst="rect">
              <a:avLst/>
            </a:prstGeom>
            <a:solidFill>
              <a:srgbClr val="4d4d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6970680" y="4695840"/>
              <a:ext cx="247680" cy="30240"/>
            </a:xfrm>
            <a:prstGeom prst="rect">
              <a:avLst/>
            </a:prstGeom>
            <a:solidFill>
              <a:srgbClr val="4f4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6970680" y="4726080"/>
              <a:ext cx="247680" cy="31680"/>
            </a:xfrm>
            <a:prstGeom prst="rect">
              <a:avLst/>
            </a:prstGeom>
            <a:solidFill>
              <a:srgbClr val="5353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6970680" y="4757760"/>
              <a:ext cx="247680" cy="15840"/>
            </a:xfrm>
            <a:prstGeom prst="rect">
              <a:avLst/>
            </a:prstGeom>
            <a:solidFill>
              <a:srgbClr val="5555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6970680" y="4773600"/>
              <a:ext cx="247680" cy="30240"/>
            </a:xfrm>
            <a:prstGeom prst="rect">
              <a:avLst/>
            </a:prstGeom>
            <a:solidFill>
              <a:srgbClr val="585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6970680" y="4803840"/>
              <a:ext cx="247680" cy="30240"/>
            </a:xfrm>
            <a:prstGeom prst="rect">
              <a:avLst/>
            </a:prstGeom>
            <a:solidFill>
              <a:srgbClr val="5d5d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6970680" y="4834080"/>
              <a:ext cx="247680" cy="15840"/>
            </a:xfrm>
            <a:prstGeom prst="rect">
              <a:avLst/>
            </a:prstGeom>
            <a:solidFill>
              <a:srgbClr val="606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6970680" y="4849920"/>
              <a:ext cx="247680" cy="31680"/>
            </a:xfrm>
            <a:prstGeom prst="rect">
              <a:avLst/>
            </a:prstGeom>
            <a:solidFill>
              <a:srgbClr val="6464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970680" y="4881600"/>
              <a:ext cx="247680" cy="30240"/>
            </a:xfrm>
            <a:prstGeom prst="rect">
              <a:avLst/>
            </a:prstGeom>
            <a:solidFill>
              <a:srgbClr val="696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6970680" y="4911840"/>
              <a:ext cx="247680" cy="15840"/>
            </a:xfrm>
            <a:prstGeom prst="rect">
              <a:avLst/>
            </a:prstGeom>
            <a:solidFill>
              <a:srgbClr val="6d6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6970680" y="4927680"/>
              <a:ext cx="247680" cy="3024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6970680" y="4957920"/>
              <a:ext cx="247680" cy="1584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6970680" y="4973760"/>
              <a:ext cx="247680" cy="31680"/>
            </a:xfrm>
            <a:prstGeom prst="rect">
              <a:avLst/>
            </a:prstGeom>
            <a:solidFill>
              <a:srgbClr val="787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6970680" y="5005440"/>
              <a:ext cx="247680" cy="30240"/>
            </a:xfrm>
            <a:prstGeom prst="rect">
              <a:avLst/>
            </a:prstGeom>
            <a:solidFill>
              <a:srgbClr val="7d7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970680" y="5035680"/>
              <a:ext cx="247680" cy="1584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6970680" y="5051520"/>
              <a:ext cx="247680" cy="30240"/>
            </a:xfrm>
            <a:prstGeom prst="rect">
              <a:avLst/>
            </a:prstGeom>
            <a:solidFill>
              <a:srgbClr val="8383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970680" y="5081760"/>
              <a:ext cx="247680" cy="3168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970680" y="5113440"/>
              <a:ext cx="247680" cy="1404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6970680" y="5127480"/>
              <a:ext cx="247680" cy="32040"/>
            </a:xfrm>
            <a:prstGeom prst="rect">
              <a:avLst/>
            </a:prstGeom>
            <a:solidFill>
              <a:srgbClr val="8c8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6970680" y="5159520"/>
              <a:ext cx="247680" cy="2988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6970680" y="5189400"/>
              <a:ext cx="247680" cy="15840"/>
            </a:xfrm>
            <a:prstGeom prst="rect">
              <a:avLst/>
            </a:prstGeom>
            <a:solidFill>
              <a:srgbClr val="919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6970680" y="5205240"/>
              <a:ext cx="247680" cy="302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6970680" y="5235480"/>
              <a:ext cx="247680" cy="3168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6970680" y="5267160"/>
              <a:ext cx="247680" cy="1620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6970680" y="5283360"/>
              <a:ext cx="247680" cy="2988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6970680" y="5313240"/>
              <a:ext cx="247680" cy="32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6970680" y="5345280"/>
              <a:ext cx="247680" cy="140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6970680" y="5359320"/>
              <a:ext cx="2476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2" name=""/>
          <p:cNvSpPr/>
          <p:nvPr/>
        </p:nvSpPr>
        <p:spPr>
          <a:xfrm>
            <a:off x="6970680" y="4572000"/>
            <a:ext cx="247680" cy="8190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3" name=""/>
          <p:cNvGrpSpPr/>
          <p:nvPr/>
        </p:nvGrpSpPr>
        <p:grpSpPr>
          <a:xfrm>
            <a:off x="7558200" y="4849920"/>
            <a:ext cx="245880" cy="541080"/>
            <a:chOff x="7558200" y="4849920"/>
            <a:chExt cx="245880" cy="541080"/>
          </a:xfrm>
        </p:grpSpPr>
        <p:sp>
          <p:nvSpPr>
            <p:cNvPr id="1414" name=""/>
            <p:cNvSpPr/>
            <p:nvPr/>
          </p:nvSpPr>
          <p:spPr>
            <a:xfrm>
              <a:off x="7558200" y="4849920"/>
              <a:ext cx="245880" cy="158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7558200" y="4865760"/>
              <a:ext cx="245880" cy="3024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7558200" y="4896000"/>
              <a:ext cx="245880" cy="1584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7558200" y="4911840"/>
              <a:ext cx="245880" cy="31680"/>
            </a:xfrm>
            <a:prstGeom prst="rect">
              <a:avLst/>
            </a:prstGeom>
            <a:solidFill>
              <a:srgbClr val="4d4d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7558200" y="4943520"/>
              <a:ext cx="245880" cy="14400"/>
            </a:xfrm>
            <a:prstGeom prst="rect">
              <a:avLst/>
            </a:prstGeom>
            <a:solidFill>
              <a:srgbClr val="5151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7558200" y="4957920"/>
              <a:ext cx="245880" cy="31680"/>
            </a:xfrm>
            <a:prstGeom prst="rect">
              <a:avLst/>
            </a:prstGeom>
            <a:solidFill>
              <a:srgbClr val="5555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7558200" y="4989600"/>
              <a:ext cx="245880" cy="15840"/>
            </a:xfrm>
            <a:prstGeom prst="rect">
              <a:avLst/>
            </a:prstGeom>
            <a:solidFill>
              <a:srgbClr val="5959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7558200" y="5005440"/>
              <a:ext cx="245880" cy="30240"/>
            </a:xfrm>
            <a:prstGeom prst="rect">
              <a:avLst/>
            </a:prstGeom>
            <a:solidFill>
              <a:srgbClr val="5e5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7558200" y="5035680"/>
              <a:ext cx="245880" cy="15840"/>
            </a:xfrm>
            <a:prstGeom prst="rect">
              <a:avLst/>
            </a:prstGeom>
            <a:solidFill>
              <a:srgbClr val="6464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7558200" y="5051520"/>
              <a:ext cx="245880" cy="3024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7558200" y="5081760"/>
              <a:ext cx="245880" cy="1584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7558200" y="5097600"/>
              <a:ext cx="245880" cy="15840"/>
            </a:xfrm>
            <a:prstGeom prst="rect">
              <a:avLst/>
            </a:prstGeom>
            <a:solidFill>
              <a:srgbClr val="737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7558200" y="5113440"/>
              <a:ext cx="245880" cy="30240"/>
            </a:xfrm>
            <a:prstGeom prst="rect">
              <a:avLst/>
            </a:prstGeom>
            <a:solidFill>
              <a:srgbClr val="797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7558200" y="5143680"/>
              <a:ext cx="245880" cy="1584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7558200" y="5159520"/>
              <a:ext cx="245880" cy="29880"/>
            </a:xfrm>
            <a:prstGeom prst="rect">
              <a:avLst/>
            </a:prstGeom>
            <a:solidFill>
              <a:srgbClr val="838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7558200" y="5189400"/>
              <a:ext cx="245880" cy="158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7558200" y="5205240"/>
              <a:ext cx="245880" cy="30240"/>
            </a:xfrm>
            <a:prstGeom prst="rect">
              <a:avLst/>
            </a:prstGeom>
            <a:solidFill>
              <a:srgbClr val="8b8b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7558200" y="5235480"/>
              <a:ext cx="245880" cy="1584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7558200" y="5251320"/>
              <a:ext cx="245880" cy="3204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7558200" y="5283360"/>
              <a:ext cx="245880" cy="14040"/>
            </a:xfrm>
            <a:prstGeom prst="rect">
              <a:avLst/>
            </a:prstGeom>
            <a:solidFill>
              <a:srgbClr val="9393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7558200" y="5297400"/>
              <a:ext cx="245880" cy="3168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7558200" y="5329080"/>
              <a:ext cx="245880" cy="1620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7558200" y="5345280"/>
              <a:ext cx="245880" cy="2988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7558200" y="5375160"/>
              <a:ext cx="245880" cy="158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8" name=""/>
          <p:cNvSpPr/>
          <p:nvPr/>
        </p:nvSpPr>
        <p:spPr>
          <a:xfrm>
            <a:off x="7558200" y="4849920"/>
            <a:ext cx="245880" cy="5410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1536840" y="2301840"/>
            <a:ext cx="1440" cy="3089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1474920" y="5391000"/>
            <a:ext cx="61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1474920" y="4943520"/>
            <a:ext cx="6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1474920" y="4510080"/>
            <a:ext cx="6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1474920" y="4062240"/>
            <a:ext cx="61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1474920" y="3630600"/>
            <a:ext cx="6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1474920" y="3181320"/>
            <a:ext cx="6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1474920" y="2749680"/>
            <a:ext cx="6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1474920" y="2301840"/>
            <a:ext cx="61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1536840" y="5391000"/>
            <a:ext cx="7024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 flipV="1">
            <a:off x="153684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V="1">
            <a:off x="2124000" y="53910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 flipV="1">
            <a:off x="2709720" y="53910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 flipV="1">
            <a:off x="329724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 flipV="1">
            <a:off x="3882960" y="53910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 flipV="1">
            <a:off x="447048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 flipV="1">
            <a:off x="505620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 flipV="1">
            <a:off x="5627520" y="53910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 flipV="1">
            <a:off x="621504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 flipV="1">
            <a:off x="6800760" y="53910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 flipV="1">
            <a:off x="738828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 flipV="1">
            <a:off x="797400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 flipV="1">
            <a:off x="856152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1740600" y="233208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31,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2326680" y="233208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31,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2913840" y="233208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31,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3499560" y="233208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31,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6338880" y="3892680"/>
            <a:ext cx="371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5,7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6970680" y="429408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0,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7558200" y="457200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5,2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8202240" y="5113440"/>
            <a:ext cx="206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0,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5815800" y="325908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1,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5244480" y="299736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4,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4672800" y="281160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6,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4087080" y="264168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8,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1316160" y="52833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1316160" y="48340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1211040" y="4402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1211040" y="395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1211040" y="352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1211040" y="30733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1211040" y="264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1211040" y="21938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 rot="16200000">
            <a:off x="162216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 rot="16200000">
            <a:off x="220968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 rot="16200000">
            <a:off x="279540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 rot="16200000">
            <a:off x="338256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 rot="16200000">
            <a:off x="396864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 rot="16200000">
            <a:off x="455580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 rot="16200000">
            <a:off x="512748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 rot="16200000">
            <a:off x="571320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 rot="16200000">
            <a:off x="630036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 rot="16200000">
            <a:off x="688644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 rot="16200000">
            <a:off x="747360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 rot="16200000">
            <a:off x="805932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 rot="16200000">
            <a:off x="-147600" y="3630600"/>
            <a:ext cx="2190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% ARANCEL IMPOR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611280" y="1978200"/>
            <a:ext cx="8088120" cy="41846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sp>
        <p:nvSpPr>
          <p:cNvPr id="1497" name=""/>
          <p:cNvSpPr/>
          <p:nvPr/>
        </p:nvSpPr>
        <p:spPr>
          <a:xfrm>
            <a:off x="753840" y="630864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8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1499" name="" descr=""/>
            <p:cNvPicPr/>
            <p:nvPr/>
          </p:nvPicPr>
          <p:blipFill>
            <a:blip r:embed="rId2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108000" y="1628640"/>
          <a:ext cx="8893080" cy="477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628640"/>
                    <a:ext cx="8893080" cy="477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VOLUCIÓN TASA INTERÉS CHILE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BN" descr=""/>
          <p:cNvPicPr/>
          <p:nvPr/>
        </p:nvPicPr>
        <p:blipFill>
          <a:blip r:embed="rId3"/>
          <a:stretch/>
        </p:blipFill>
        <p:spPr>
          <a:xfrm>
            <a:off x="0" y="0"/>
            <a:ext cx="1324080" cy="16286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749520" y="6381720"/>
            <a:ext cx="288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Banco Central de Chile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8101080" y="0"/>
            <a:ext cx="1001520" cy="1587600"/>
            <a:chOff x="8101080" y="0"/>
            <a:chExt cx="1001520" cy="1587600"/>
          </a:xfrm>
        </p:grpSpPr>
        <p:pic>
          <p:nvPicPr>
            <p:cNvPr id="90" name="" descr=""/>
            <p:cNvPicPr/>
            <p:nvPr/>
          </p:nvPicPr>
          <p:blipFill>
            <a:blip r:embed="rId4"/>
            <a:stretch/>
          </p:blipFill>
          <p:spPr>
            <a:xfrm>
              <a:off x="8101080" y="0"/>
              <a:ext cx="1001520" cy="1587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CEITES Y OLEAGINOS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CEITES PUROS: ARANCEL CERO INMEDIATO, CON EXCEPCIÓN DEL ACEITE DE RAPS O CANO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E MANTIENE LA BANDA DE PRECIOS MODIFICADA DE ACUERDO A LAS EXIGENCIAS OMC POR 12 AÑOS, CON DESGRAVACIÓN IGUAL AL TRI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03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1504" name="" descr=""/>
            <p:cNvPicPr/>
            <p:nvPr/>
          </p:nvPicPr>
          <p:blipFill>
            <a:blip r:embed="rId2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ZÚ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E  MANTIENE LA BANDA O ARANCEL CONSOLIDADO ANTE LA OMC POR 12 AÑOS, SEGÚN PLAZOS Y DESGRAVACIONES SIMILARES AL CASO DEL TRI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EXISTENCIA DE CLÁUSULA, QUE OBLIGA A CHILE A SER EXCEDENTARIO EN AZÚCAR, PARA PODER EXPORT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0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09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72400" cy="12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ESGRAVACIÓN AZÚCAR CON ACUERDO 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1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8458200" cy="4800600"/>
          </a:xfrm>
          <a:prstGeom prst="rect">
            <a:avLst/>
          </a:prstGeom>
          <a:ln w="0">
            <a:noFill/>
          </a:ln>
        </p:spPr>
      </p:pic>
      <p:pic>
        <p:nvPicPr>
          <p:cNvPr id="1512" name="BN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sp>
        <p:nvSpPr>
          <p:cNvPr id="1513" name=""/>
          <p:cNvSpPr/>
          <p:nvPr/>
        </p:nvSpPr>
        <p:spPr>
          <a:xfrm>
            <a:off x="609480" y="638172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4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1515" name="" descr=""/>
            <p:cNvPicPr/>
            <p:nvPr/>
          </p:nvPicPr>
          <p:blipFill>
            <a:blip r:embed="rId3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ESGRAVACIÓN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CHILE - EEU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DESGRAVACIÓN INMEDI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8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244880" cy="1524240"/>
          </a:xfrm>
          <a:prstGeom prst="rect">
            <a:avLst/>
          </a:prstGeom>
          <a:ln w="0">
            <a:noFill/>
          </a:ln>
        </p:spPr>
      </p:pic>
      <p:grpSp>
        <p:nvGrpSpPr>
          <p:cNvPr id="1519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1520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1" name=""/>
          <p:cNvGraphicFramePr/>
          <p:nvPr/>
        </p:nvGraphicFramePr>
        <p:xfrm>
          <a:off x="914400" y="2327400"/>
          <a:ext cx="7238880" cy="317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327400"/>
                    <a:ext cx="7238880" cy="31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5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26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1527" name="" descr=""/>
            <p:cNvPicPr/>
            <p:nvPr/>
          </p:nvPicPr>
          <p:blipFill>
            <a:blip r:embed="rId4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9" name=""/>
          <p:cNvGraphicFramePr/>
          <p:nvPr/>
        </p:nvGraphicFramePr>
        <p:xfrm>
          <a:off x="917640" y="2276640"/>
          <a:ext cx="8043840" cy="3944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7640" y="2276640"/>
                    <a:ext cx="8043840" cy="39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1" name=""/>
          <p:cNvSpPr/>
          <p:nvPr/>
        </p:nvSpPr>
        <p:spPr>
          <a:xfrm>
            <a:off x="1065240" y="617220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2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33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1534" name="" descr=""/>
            <p:cNvPicPr/>
            <p:nvPr/>
          </p:nvPicPr>
          <p:blipFill>
            <a:blip r:embed="rId4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6" name=""/>
          <p:cNvGraphicFramePr/>
          <p:nvPr/>
        </p:nvGraphicFramePr>
        <p:xfrm>
          <a:off x="762120" y="2216160"/>
          <a:ext cx="7086600" cy="3959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16160"/>
                    <a:ext cx="7086600" cy="39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8" name=""/>
          <p:cNvSpPr/>
          <p:nvPr/>
        </p:nvSpPr>
        <p:spPr>
          <a:xfrm>
            <a:off x="760320" y="624852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9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40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1541" name="" descr=""/>
            <p:cNvPicPr/>
            <p:nvPr/>
          </p:nvPicPr>
          <p:blipFill>
            <a:blip r:embed="rId4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3" name=""/>
          <p:cNvGraphicFramePr/>
          <p:nvPr/>
        </p:nvGraphicFramePr>
        <p:xfrm>
          <a:off x="762120" y="2757600"/>
          <a:ext cx="7543800" cy="2593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757600"/>
                    <a:ext cx="7543800" cy="25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5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6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47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48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0" name=""/>
          <p:cNvGraphicFramePr/>
          <p:nvPr/>
        </p:nvGraphicFramePr>
        <p:xfrm>
          <a:off x="457200" y="2776680"/>
          <a:ext cx="7772400" cy="281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776680"/>
                    <a:ext cx="7772400" cy="28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2" name=""/>
          <p:cNvSpPr/>
          <p:nvPr/>
        </p:nvSpPr>
        <p:spPr>
          <a:xfrm>
            <a:off x="455400" y="571500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3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54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55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7" name=""/>
          <p:cNvGraphicFramePr/>
          <p:nvPr/>
        </p:nvGraphicFramePr>
        <p:xfrm>
          <a:off x="1219320" y="2695680"/>
          <a:ext cx="6705360" cy="273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695680"/>
                    <a:ext cx="6705360" cy="27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9" name=""/>
          <p:cNvSpPr/>
          <p:nvPr/>
        </p:nvSpPr>
        <p:spPr>
          <a:xfrm>
            <a:off x="1293840" y="571500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0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61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62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6:25:50Z</dcterms:created>
  <dc:creator>Carlos Arancibia</dc:creator>
  <dc:description/>
  <dc:language>en-US</dc:language>
  <cp:lastModifiedBy>Varinia Goldstein</cp:lastModifiedBy>
  <cp:lastPrinted>2003-04-03T19:56:17Z</cp:lastPrinted>
  <dcterms:modified xsi:type="dcterms:W3CDTF">2004-12-01T22:36:20Z</dcterms:modified>
  <cp:revision>86</cp:revision>
  <dc:subject/>
  <dc:title>Sin título de diapositiva</dc:title>
</cp:coreProperties>
</file>